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900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5880" y="182844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900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5880" y="4057200"/>
            <a:ext cx="2711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360" y="405720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6360" y="1828440"/>
            <a:ext cx="4108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4057200"/>
            <a:ext cx="84200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3880"/>
            <a:ext cx="990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248520"/>
            <a:ext cx="8381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Century Schoolbook"/>
              </a:rPr>
              <a:t>LEONARDO INSIGHT II - Conceitos básicos de t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188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© J. M. Martins Ferreira - Universidade do Porto (FEUP / DEEC)</a:t>
            </a:r>
            <a:r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fld id="{4447B4C4-78D6-4F49-AFAA-AFE0D151C6F0}" type="slidenum">
              <a:rPr b="0" lang="pt-PT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5248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Century Schoolbook"/>
              </a:rPr>
              <a:t>Conceitos básicos de teste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09680" y="342900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J. M. Martins Ferreir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FEUP / DEEC - Rua dos Braga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4050-123 Porto - PORTUG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el. 351-22-2041748 / Fax: 351-22-200361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entury Schoolbook"/>
              </a:rPr>
              <a:t>(jmf@fe.up.pt / http://www.fe.up.pt/~jmf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1793520" cy="1967040"/>
            <a:chOff x="380880" y="685800"/>
            <a:chExt cx="1793520" cy="1967040"/>
          </a:xfrm>
        </p:grpSpPr>
        <p:graphicFrame>
          <p:nvGraphicFramePr>
            <p:cNvPr id="43" name=""/>
            <p:cNvGraphicFramePr/>
            <p:nvPr/>
          </p:nvGraphicFramePr>
          <p:xfrm>
            <a:off x="380880" y="685800"/>
            <a:ext cx="960480" cy="135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960480" cy="1350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5" name="INSIGHT_II" descr=""/>
            <p:cNvPicPr/>
            <p:nvPr/>
          </p:nvPicPr>
          <p:blipFill>
            <a:blip r:embed="rId3"/>
            <a:stretch/>
          </p:blipFill>
          <p:spPr>
            <a:xfrm>
              <a:off x="1108080" y="1499760"/>
              <a:ext cx="1066320" cy="115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bservabilidade de um nó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90920" y="1905120"/>
          <a:ext cx="4725720" cy="171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47257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8080" y="4114800"/>
          <a:ext cx="8305920" cy="196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83059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estabilida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testabilidade é uma medida combinada de controlabilidade e de observabilida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ma testabilidade elevada facilita a geração de vectores e conduz a uma maior eficácia do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ndo assim, porque é que nem todos os circuitos têm boas características de testabilidad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notação 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Foi usada no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algoritmo D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, introduzido por Paul Roth em meados dos anos 6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D representa um valor lógico composto que resulta quando se tenta aplicar um </a:t>
            </a:r>
            <a:r>
              <a:rPr b="1" lang="pt-PT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 a um nó s@0 (/D representa a situação dua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4343400"/>
          <a:ext cx="8686800" cy="200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343400"/>
                    <a:ext cx="868680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algoritmo 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plicar no nó o valor lógico oposto ao da falta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se s@1 e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se s@0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opagar o sinal de erro (D ou /D) até uma saída primár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Justificar (de jusante para montante) os valores que possibilitam o percurso de propagação, até se chegar a uma combinação necessária nas entradas primárias (o vector de teste procurado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Exemplo de geração de um vecto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90720" y="1752480"/>
          <a:ext cx="7924680" cy="46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92468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 caso das faltas não detectávei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752480"/>
          <a:ext cx="8001000" cy="47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00100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Retroceder (</a:t>
            </a:r>
            <a:r>
              <a:rPr b="0" i="1" lang="pt-PT" sz="4000" spc="-1" strike="noStrike">
                <a:solidFill>
                  <a:srgbClr val="000000"/>
                </a:solidFill>
                <a:latin typeface="Century Schoolbook"/>
              </a:rPr>
              <a:t>backtracking</a:t>
            </a: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) na procura de uma falt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90720" y="1752480"/>
          <a:ext cx="8001000" cy="47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0010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Geração de testes para circuitos sequenciai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aplicação directa do algoritmo D conduz apenas às entradas e saídas do bloco combinatório, não necessariamente às entradas ou saídas primári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752480"/>
          <a:ext cx="43102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752480"/>
                    <a:ext cx="4310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Geração de testes - passo 1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1752480"/>
          <a:ext cx="8001000" cy="45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00100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Geração de testes - passo 2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1752480"/>
          <a:ext cx="7772400" cy="46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7724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Objectivo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Enfatizar a importância do teste no ciclo global de desenvolvimento de um produ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Introduzir os conceitos básicos de teste e projecto para a testabilida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Preparar o aluno para compreender em detalhe a arquitectura 1149.1 (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IEEE Standard Test Access Port and Boundary-Scan Architecture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Geração de testes - passo 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90720" y="1752480"/>
          <a:ext cx="8229600" cy="46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22960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complexidade do caso geral é no entanto muito superior, porque.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algoritmo D não conduz necessariamente às entradas e saídas primári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É necessário conhecermos o diagrama de transição de estados do circui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falta pode afectar o diagrama de transição de estados, caso em que a determinação da sequência pretendida nas entradas primárias se torna ainda mais difíci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sidere-se o exemplo de Y s@0.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1981080"/>
          <a:ext cx="8001000" cy="42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800100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Melhoria de testabilidade por métodos </a:t>
            </a:r>
            <a:r>
              <a:rPr b="0" i="1" lang="pt-PT" sz="4000" spc="-1" strike="noStrike">
                <a:solidFill>
                  <a:srgbClr val="000000"/>
                </a:solidFill>
                <a:latin typeface="Century Schoolbook"/>
              </a:rPr>
              <a:t>ad hoc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gras de projecto ou correcções posteriores, com o objectivo de minimizar os problemas de geração de vectore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incipais desvantagen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m sempre são reutilizáve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testabilidade depende largamente do tipo de circui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Algumas regras </a:t>
            </a:r>
            <a:r>
              <a:rPr b="0" i="1" lang="pt-PT" sz="4000" spc="-1" strike="noStrike">
                <a:solidFill>
                  <a:srgbClr val="000000"/>
                </a:solidFill>
                <a:latin typeface="Century Schoolbook"/>
              </a:rPr>
              <a:t>ad hoc</a:t>
            </a: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 de projecto para a testabilida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ticionar contadores para evitar um número muito elevado de impulsos de relógio, até se chegar à combinação pretendida nas saíd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cluir linhas de reinicialização a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e a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síncronas e assíncronas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ticionar os circuitos mais complexos e acrescentar entradas e saídas específicas para a controlabilidade e observabilidade de nós intern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todologias estruturadas de projecto para a testabilida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Estas metodologias (DfT, 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Design for Testability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 têm por objectivo garantir que podemos levar um circuito até um dado estado, num número fixo (e reduzido) de impulsos de relóg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Existem desvantagens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As regras de projecto (de facto, trata-se mais de um </a:t>
            </a:r>
            <a:r>
              <a:rPr b="0" i="1" lang="pt-PT" sz="2400" spc="-1" strike="noStrike">
                <a:solidFill>
                  <a:srgbClr val="000000"/>
                </a:solidFill>
                <a:latin typeface="Century Schoolbook"/>
              </a:rPr>
              <a:t>estilo de projecto</a:t>
            </a: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) têm que ser aceites pelo projectis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Área de silício adicional, maior número de pinos e maiores tempos de propagação… serão um custo adiciona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O princípio de projecto com varrimento (</a:t>
            </a:r>
            <a:r>
              <a:rPr b="0" i="1" lang="en-GB" sz="4000" spc="-1" strike="noStrike">
                <a:solidFill>
                  <a:srgbClr val="000000"/>
                </a:solidFill>
                <a:latin typeface="Century Schoolbook"/>
              </a:rPr>
              <a:t>scan design</a:t>
            </a: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princípio do projecto com varrimento consiste em inserir um multiplexador de 2:1 entre a entrada de cada FF D e a lógica a ela ligad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2880" y="1752480"/>
          <a:ext cx="3811680" cy="43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752480"/>
                    <a:ext cx="381168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Vantagens do projecto com varrimento (controlabilidade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Problema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: Algumas das entradas do bloco combinatório não são directamente controláveis, porque provêm das saídas dos FF D (são os nós que definem o estado actual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Solução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: Os FF com varrimento (</a:t>
            </a:r>
            <a:r>
              <a:rPr b="0" i="1" lang="en-GB" sz="2800" spc="-1" strike="noStrike">
                <a:solidFill>
                  <a:srgbClr val="000000"/>
                </a:solidFill>
                <a:latin typeface="Century Schoolbook"/>
              </a:rPr>
              <a:t>scan FF</a:t>
            </a: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) permitem a controlabilidade directa das suas saídas através de um procedimento simples, com um número fixo de impulsos de relóg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controlabilidade por projecto com varrimento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1752480"/>
          <a:ext cx="8229600" cy="458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2296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controlabilidade por projecto com varrimento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752480"/>
          <a:ext cx="82296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eúd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762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Modelação de faltas e modelo ss@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Controlabilidade, observabilidade e testabilida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Geração de vectores de teste para circuitos combinatóri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Testabilidade e geração de testes em circuitos sequencia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Melhoria de testabilidade por soluções </a:t>
            </a:r>
            <a:r>
              <a:rPr b="0" i="1" lang="pt-PT" sz="2800" spc="-1" strike="noStrike">
                <a:solidFill>
                  <a:srgbClr val="000000"/>
                </a:solidFill>
                <a:latin typeface="Century Schoolbook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bordagens estruturadas ao projecto para a testabilida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controlabilidade por projecto com varrimento (3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90720" y="1752480"/>
          <a:ext cx="8229600" cy="46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229600" cy="46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controlabilidade por projecto com varrimento (4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752480"/>
          <a:ext cx="8305560" cy="46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30556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controlabilidade por projecto com varrimento (5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752480"/>
          <a:ext cx="8229600" cy="458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2296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Vantagens do projecto com varrimento (observabilidade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Problem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Algumas das saídas do bloco combinatório não são directamente observáveis, porque constituem entradas dos FF D (são os nós que definem o estado seguint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Soluçã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Os FF com varrimento permitem a observabilidade directa das suas entradas através de um procedimento simples, com um número fixo de impulsos de relógi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observabilidade por projecto com varrimento (1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90720" y="1752480"/>
          <a:ext cx="8381880" cy="458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38188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observabilidade por projecto com varrimento (2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90720" y="1752480"/>
          <a:ext cx="8381880" cy="46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38188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observabilidade por projecto com varrimento (3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1752480"/>
          <a:ext cx="8381880" cy="46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38188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observabilidade por projecto com varrimento (4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90720" y="1752480"/>
          <a:ext cx="8686800" cy="45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68680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Melhoria de observabilidade por projecto com varrimento (5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1752480"/>
          <a:ext cx="8229600" cy="46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822960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0" i="1" lang="pt-PT" sz="4000" spc="-1" strike="noStrike">
                <a:solidFill>
                  <a:srgbClr val="000000"/>
                </a:solidFill>
                <a:latin typeface="Century Schoolbook"/>
              </a:rPr>
              <a:t>eventual</a:t>
            </a: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 sobrecarga de teste (</a:t>
            </a:r>
            <a:r>
              <a:rPr b="0" i="1" lang="en-GB" sz="4000" spc="-1" strike="noStrike">
                <a:solidFill>
                  <a:srgbClr val="000000"/>
                </a:solidFill>
                <a:latin typeface="Century Schoolbook"/>
              </a:rPr>
              <a:t>overhead</a:t>
            </a: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aior tempo de propagação (multiplexadores de 2:1), área de silício adicional e mais pinos, mas não necessariamente maior cus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benefícios inerentes à maior facilidade na geração e aplicação de testes são difíceis de quantifica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roca-se liberdade de projecto por testabilidade, mas podemos também considerar o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projecto com varrimento parcial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como solução interméd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 importância do tes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m teste não há produçã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 custo do teste é muito elevado, mas o custo de estratégias de teste insuficientes é ainda mais eleva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rmas de teste disponíve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reve perspectiva históric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orquê modelos de faltas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defeitos físicos possíveis são muitos e o seu espectro muito varia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ma estratégia de teste eficiente requer que se limite a complexidade de considerar todas as causas possíveis de mau funcionamen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s modelos de faltas permitem uma representação abstracta de defeitos físicos (uma falta situa-se ao nível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lógic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um defeito ao nível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físic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Atributos de um bom modelo de falta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Simplicidad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para permitir procedimentos eficientes de geração de vectores de tes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Cobertura de defeito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para garantir que a percentagem de componentes com defeito que escapam à detecção é aceitavelmente reduzid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O modelo de faltas ss@ </a:t>
            </a: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pt-PT" sz="4000" spc="-1" strike="noStrike">
                <a:solidFill>
                  <a:srgbClr val="000000"/>
                </a:solidFill>
                <a:latin typeface="Century Schoolbook"/>
              </a:rPr>
              <a:t>single-stuck at</a:t>
            </a:r>
            <a:r>
              <a:rPr b="0" lang="pt-PT" sz="4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Trata-se de um modelo de faltas estruturais com os seguintes atributos principai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Apenas um nó de cada vez poderá ter uma falta pres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entury Schoolbook"/>
              </a:rPr>
              <a:t>Existem apenas duas faltas possíveis: s@0 and s@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entury Schoolbook"/>
              </a:rPr>
              <a:t>A experiência mostrou que o modelo ss@ tem excelentes características no que respeita aos dois atributos referidos aci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Controlabilidade de um nó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90920" y="1981080"/>
          <a:ext cx="4725720" cy="17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81080"/>
                    <a:ext cx="4725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5800" y="4218120"/>
          <a:ext cx="8534520" cy="198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18120"/>
                    <a:ext cx="85345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roblemas devidos a baixa controlabilidad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baixa controlabilidade dificulta a geração de vectores de teste, porqu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 nosso primeiro passo para detectar uma falta s@ consiste em tentar aplicar no nó correspondente o valor oposto ao da fal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caso de circuito integrado, o valor em qualquer nó só pode ser controlado a partir dos pinos de entrada (as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entradas primária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o circuit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baixa observabilidade, como veremos, tem consequências semelhan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6:44:00Z</dcterms:created>
  <dc:creator>José Manuel Martins Ferreira</dc:creator>
  <dc:description/>
  <dc:language>en-US</dc:language>
  <cp:lastModifiedBy>J. M. Martins Ferreira</cp:lastModifiedBy>
  <dcterms:modified xsi:type="dcterms:W3CDTF">2000-01-04T15:20:57Z</dcterms:modified>
  <cp:revision>114</cp:revision>
  <dc:subject/>
  <dc:title>Arquitectura mínima</dc:title>
</cp:coreProperties>
</file>