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900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5588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900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5588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2388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248520"/>
            <a:ext cx="8381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Century Schoolbook"/>
              </a:rPr>
              <a:t>LEONARDO INSIGHT II - O teste de cartas com B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© J. M. Martins Ferreira - Universidade do Porto (FEUP / DEEC)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fld id="{4087BB45-D087-4B22-A0A9-FA87946314E9}" type="slidenum"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209680" y="1752480"/>
            <a:ext cx="739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Century Schoolbook"/>
              </a:rPr>
              <a:t>O teste de cartas com B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09680" y="3276720"/>
            <a:ext cx="6934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J. M. Martins Ferre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FEUP / DEEC - Rua dos Bra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4050-123 Porto - PORTU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el. 351-22-2041748 / Fax: 351-22-20036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(jmf@fe.up.pt / http://www.fe.up.pt/~jm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1793520" cy="1967040"/>
            <a:chOff x="380880" y="685800"/>
            <a:chExt cx="1793520" cy="1967040"/>
          </a:xfrm>
        </p:grpSpPr>
        <p:graphicFrame>
          <p:nvGraphicFramePr>
            <p:cNvPr id="43" name=""/>
            <p:cNvGraphicFramePr/>
            <p:nvPr/>
          </p:nvGraphicFramePr>
          <p:xfrm>
            <a:off x="380880" y="685800"/>
            <a:ext cx="960480" cy="135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685800"/>
                      <a:ext cx="960480" cy="13507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45" name="INSIGHT_II" descr=""/>
            <p:cNvPicPr/>
            <p:nvPr/>
          </p:nvPicPr>
          <p:blipFill>
            <a:blip r:embed="rId3"/>
            <a:stretch/>
          </p:blipFill>
          <p:spPr>
            <a:xfrm>
              <a:off x="1108080" y="1499760"/>
              <a:ext cx="1066320" cy="115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Detecção de faltas em grupos de componentes sem BST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este em-circuito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áximos requisitos em recursos de teste extern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áxima velocida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410080" y="1752480"/>
          <a:ext cx="39625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752480"/>
                    <a:ext cx="39625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Detecção de faltas em grupos de componentes sem BST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cesso periférico: Solução intermédia em termos dos recursos externos necessários e da velocida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410080" y="1752480"/>
          <a:ext cx="367668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752480"/>
                    <a:ext cx="36766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Detecção de faltas em grupos de componentes sem BST (3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828800"/>
            <a:ext cx="4343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cesso só às entradas e saídas primár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É o mais lento (quando recorre a um conjunto de vectores de teste determinístic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É também o que requer menos recursos de teste externos (apenas para as E/S primári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410080" y="1752480"/>
          <a:ext cx="367848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752480"/>
                    <a:ext cx="36784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Geração de vectores para os grupos de componentes sem B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geração de testes é feita por recurso a uma ferramenta computacional própria para o efeito, de acordo com um modelo de faltas específico e com os recursos externos de teste disponívei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pare-se no entanto que a geração pseudo-aleatória de vectores de teste e a análise de assinatura podem constituir uma alternativa de teste eficiente e rápida, nos casos em que esta abordagem for possí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3040" y="151920"/>
            <a:ext cx="8858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Teste de grupos de componentes sem BST em CCI com múltiplas cadeia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s duas primeiras alternativas (teste em-circuito e acesso periférico) não levantam requisitos especiais, já que as cadeias BST não são usadas ou têm um papel pouco releva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Quando os recursos de teste externo estão disponíveis apenas para as E/S primárias do grupo de componentes sem BST, o protocolo de teste é o mesmo já descrito para a detecção de curto-circuitos em ligações completamente B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Teste de component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evido ao domínio principal de aplicação do BST, não são de esperar muitas facilidades para o teste da lógica interna dos componen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s circuitos VLSI incluirão normalmente estruturas de auto-teste incorporadas, acessíveis através da instrução RUNBI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 caso dos componentes sem BIST, é apenas possível realizar um teste sumário, através das instruções EXTEST e INTE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bjectivo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ermitir ao aluno compreender as principais questões que devem ser consideradas para o teste de uma CCI com B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presentar um protocolo de teste que cubra as principais acções de teste pretendid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nfatizar as insuficiências deste protocolo e identificar os passos que requerem atenção suplementa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onteúd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etecção de faltas na infra-estrutura B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etecção de circuitos abertos e de curto-circuitos em ligações completamente BST (em CCI com uma ou várias cadeias BS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etecção de faltas em grupos de componentes sem BST (em CCI com uma ou várias cadeias BS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etecção de faltas em componen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 protocolo de test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Verificação da integridade da infra-estrutura B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este de ligações completamente B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tecção de circuitos aber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tecção de curto-circui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este de grupos de componentes sem B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este de componen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onentes com auto-teste incorporado (BIS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ste sumário de componentes sem auto-tes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Verificação da integridade da infra-estrutura B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etecção d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ltas em pinos do TA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onentes defeituosos ou mal coloca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quência de operaçõe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icialização da lógica de teste (/TRST ou cinco impulsos em TCK com TMS em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ptura e varrimento do registo de instruçã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ptura e varrimento do registo de identificaçã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181480" y="1676520"/>
          <a:ext cx="438156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676520"/>
                    <a:ext cx="43815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Detecção de circuitos abertos em ligações completamente B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s vectores de teste devem aplicar um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e um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através de cada pino que comande a ligação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serir a instrução SAMPLE / PRELOAD e deslocar o primeiro vector de tes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serir a instrução EXTEST e aplicar os restantes vector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267080" y="4343400"/>
          <a:ext cx="5145120" cy="173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4343400"/>
                    <a:ext cx="514512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Detecção de curto-circuitos em ligações completamente B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rincípio de teste: Aplicar valores opostos às ligações a testa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s curto-circuitos são potencialmente destrutivos e o seu número cresce exponencialmente com a dimensão do circuit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detecção é muito mais simples que o diagnóstico: um curto-circuito entre qualquer número de ligações será detectado se os curto-circuitos entre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todos os par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de ligações o fore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 algoritmo da partição binária para o teste de curto-circuito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algoritmo da partição binária garante completa detecção de faltas com um número mínimo de vectores de teste (e mínima capacidade de diagnóstico…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133720" y="3809880"/>
          <a:ext cx="5316480" cy="20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809880"/>
                    <a:ext cx="5316480" cy="20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5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Teste de ligações completamente BST em CCI com múltiplas cadeia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Mais simples no caso de circuitos abert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A detecção de curto-circuitos requer um protocolo coordenado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Inserir o vector de teste nas células do registo BS e prosseguir através de </a:t>
            </a:r>
            <a:r>
              <a:rPr b="0" i="1" lang="pt-PT" sz="2400" spc="-1" strike="noStrike">
                <a:solidFill>
                  <a:srgbClr val="000000"/>
                </a:solidFill>
                <a:latin typeface="Century Schoolbook"/>
              </a:rPr>
              <a:t>Update-DR</a:t>
            </a: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 até </a:t>
            </a:r>
            <a:r>
              <a:rPr b="0" i="1" lang="pt-PT" sz="2400" spc="-1" strike="noStrike">
                <a:solidFill>
                  <a:srgbClr val="000000"/>
                </a:solidFill>
                <a:latin typeface="Century Schoolbook"/>
              </a:rPr>
              <a:t>Select-D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Repetir esta operação com todas as cadeias B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Capturar as respostas presentes na primeira cadeia BST (passar para o estado </a:t>
            </a:r>
            <a:r>
              <a:rPr b="0" i="1" lang="pt-PT" sz="2400" spc="-1" strike="noStrike">
                <a:solidFill>
                  <a:srgbClr val="000000"/>
                </a:solidFill>
                <a:latin typeface="Century Schoolbook"/>
              </a:rPr>
              <a:t>Capture-DR</a:t>
            </a: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Repetir esta operação com todas as cadeias B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6:44:00Z</dcterms:created>
  <dc:creator>José Manuel Martins Ferreira</dc:creator>
  <dc:description/>
  <dc:language>en-US</dc:language>
  <cp:lastModifiedBy>J. M. Martins Ferreira</cp:lastModifiedBy>
  <cp:lastPrinted>1999-08-12T17:24:11Z</cp:lastPrinted>
  <dcterms:modified xsi:type="dcterms:W3CDTF">2000-01-04T15:21:46Z</dcterms:modified>
  <cp:revision>129</cp:revision>
  <dc:subject/>
  <dc:title>Arquitectura mínima</dc:title>
</cp:coreProperties>
</file>