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Introdução ao Auto-Teste Incorpor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Universidade do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66F111E3-FA51-4655-A49E-026D975C1654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5248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Introdução ao Auto-Teste Incorporado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680" y="342900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 de circuitos combinatóri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Qualquer das técnicas anteriorment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feridas, seja para a geração / aplicação de vectores, seja para a captura / avaliação de respostas, pode ser usad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solução mais comum consiste em recorrer à geração de vectores pseudo-aleatórios e à compactação de respostas por análise de assinatur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"/>
          <p:cNvSpPr/>
          <p:nvPr/>
        </p:nvSpPr>
        <p:spPr>
          <a:xfrm>
            <a:off x="8774280" y="1909800"/>
            <a:ext cx="177480" cy="35568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47280" y="99216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40480" y="1047600"/>
            <a:ext cx="555840" cy="973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73880" y="1047600"/>
            <a:ext cx="1167120" cy="193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73880" y="1825560"/>
            <a:ext cx="1167120" cy="19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96320" y="1074600"/>
            <a:ext cx="272880" cy="13680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73880" y="963720"/>
            <a:ext cx="1167120" cy="8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8001000" y="1854360"/>
            <a:ext cx="272880" cy="134640"/>
          </a:xfrm>
          <a:prstGeom prst="rightArrow">
            <a:avLst>
              <a:gd name="adj1" fmla="val 50000"/>
              <a:gd name="adj2" fmla="val 506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1436760"/>
            <a:ext cx="272880" cy="135000"/>
          </a:xfrm>
          <a:prstGeom prst="rightArrow">
            <a:avLst>
              <a:gd name="adj1" fmla="val 50000"/>
              <a:gd name="adj2" fmla="val 50533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774280" y="1463760"/>
            <a:ext cx="177480" cy="357120"/>
          </a:xfrm>
          <a:prstGeom prst="downArrow">
            <a:avLst>
              <a:gd name="adj1" fmla="val 50000"/>
              <a:gd name="adj2" fmla="val 50304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73880" y="1352520"/>
            <a:ext cx="1167120" cy="333360"/>
          </a:xfrm>
          <a:prstGeom prst="rect">
            <a:avLst/>
          </a:prstGeom>
          <a:solidFill>
            <a:srgbClr val="0066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747280" y="68580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2600" y="880920"/>
            <a:ext cx="2222280" cy="12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ircuitos combinatórios: geração / aplicação de test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Geração pseudo-aleatória de vectores de teste, através de um LFSR (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Linear Feedback Shift Register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, para um multiplexador de 2: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3581280"/>
            <a:ext cx="4857480" cy="159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15000" y="5334120"/>
            <a:ext cx="3057480" cy="969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774280" y="1909800"/>
            <a:ext cx="177480" cy="35568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47280" y="99216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40480" y="1047600"/>
            <a:ext cx="555840" cy="973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73880" y="1047600"/>
            <a:ext cx="1167120" cy="1936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73880" y="1825560"/>
            <a:ext cx="1167120" cy="19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96320" y="1074600"/>
            <a:ext cx="272880" cy="13680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73880" y="963720"/>
            <a:ext cx="1167120" cy="8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001000" y="1854360"/>
            <a:ext cx="272880" cy="134640"/>
          </a:xfrm>
          <a:prstGeom prst="rightArrow">
            <a:avLst>
              <a:gd name="adj1" fmla="val 50000"/>
              <a:gd name="adj2" fmla="val 506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1436760"/>
            <a:ext cx="272880" cy="135000"/>
          </a:xfrm>
          <a:prstGeom prst="rightArrow">
            <a:avLst>
              <a:gd name="adj1" fmla="val 50000"/>
              <a:gd name="adj2" fmla="val 50533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774280" y="1463760"/>
            <a:ext cx="177480" cy="357120"/>
          </a:xfrm>
          <a:prstGeom prst="downArrow">
            <a:avLst>
              <a:gd name="adj1" fmla="val 50000"/>
              <a:gd name="adj2" fmla="val 50304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73880" y="1352520"/>
            <a:ext cx="1167120" cy="333360"/>
          </a:xfrm>
          <a:prstGeom prst="rect">
            <a:avLst/>
          </a:prstGeom>
          <a:solidFill>
            <a:srgbClr val="0066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47280" y="68580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2600" y="880920"/>
            <a:ext cx="2222280" cy="12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85440" y="1066680"/>
            <a:ext cx="7543800" cy="25146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10080" y="1219320"/>
            <a:ext cx="2819520" cy="236196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790960" y="1752480"/>
            <a:ext cx="2438280" cy="350532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915400" y="1752480"/>
            <a:ext cx="533520" cy="381024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ircuitos combinatórios: geração / aplicação de test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ercícios recomendados ao leito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is as ligações a efectuar entre o circuito a testar e o LFS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l o número de impulsos de relógio a aplica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l o valor inicial das saídas Q0 a Q3 (no LFSR)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a possível usar um LFSR de três bit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o se compara (sobrecarga de teste) a geração pseudo-aleatória e a geração exaustiv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81480" y="5638680"/>
            <a:ext cx="2876760" cy="944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96080" y="4876920"/>
            <a:ext cx="183852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ircuitos combinatórios: captura / avaliação de resposta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pactação de respostas por análise de assinatura, através de um LFSR, para o multiplexador de 2: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"/>
          <p:cNvSpPr/>
          <p:nvPr/>
        </p:nvSpPr>
        <p:spPr>
          <a:xfrm>
            <a:off x="8774280" y="1909800"/>
            <a:ext cx="177480" cy="35568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47280" y="99216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1047600"/>
            <a:ext cx="555840" cy="973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73880" y="1047600"/>
            <a:ext cx="1167120" cy="193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73880" y="1825560"/>
            <a:ext cx="1167120" cy="1954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96320" y="1074600"/>
            <a:ext cx="272880" cy="13680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73880" y="963720"/>
            <a:ext cx="1167120" cy="8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001000" y="1854360"/>
            <a:ext cx="272880" cy="134640"/>
          </a:xfrm>
          <a:prstGeom prst="rightArrow">
            <a:avLst>
              <a:gd name="adj1" fmla="val 50000"/>
              <a:gd name="adj2" fmla="val 506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1436760"/>
            <a:ext cx="272880" cy="135000"/>
          </a:xfrm>
          <a:prstGeom prst="rightArrow">
            <a:avLst>
              <a:gd name="adj1" fmla="val 50000"/>
              <a:gd name="adj2" fmla="val 50533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774280" y="1463760"/>
            <a:ext cx="177480" cy="357120"/>
          </a:xfrm>
          <a:prstGeom prst="downArrow">
            <a:avLst>
              <a:gd name="adj1" fmla="val 50000"/>
              <a:gd name="adj2" fmla="val 50304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73880" y="1352520"/>
            <a:ext cx="1167120" cy="333360"/>
          </a:xfrm>
          <a:prstGeom prst="rect">
            <a:avLst/>
          </a:prstGeom>
          <a:solidFill>
            <a:srgbClr val="0066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747280" y="68580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02600" y="880920"/>
            <a:ext cx="2222280" cy="12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95680" y="4419720"/>
            <a:ext cx="4705560" cy="1179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3057480" cy="969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>
            <a:off x="1523520" y="1371600"/>
            <a:ext cx="6705720" cy="20574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9143640" y="2057400"/>
            <a:ext cx="304920" cy="22860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00240" y="2057400"/>
            <a:ext cx="3429000" cy="22860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95680" y="1676520"/>
            <a:ext cx="3733920" cy="220968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ircuitos combinatórios: captura / avaliação de resposta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ercícios recomendados ao leito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is as ligações a efectuar entre o circuito a testar e o LFS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l o número de impulsos de relógio a aplica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l o valor inicial das saídas do LFS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 mascaramento variará com o número de bits da assinatur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resentar um exemplo que ilustre a ocorrência de mascara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10080" y="5486400"/>
            <a:ext cx="3562560" cy="89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467480" y="1676520"/>
            <a:ext cx="191448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ircuitos combinatórios: captura / avaliação de resposta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utras alternativas para a compactaçã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gem de transiçõ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agem de síndromas (número de 1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ercício recomendado: considerando que se aplica ao multiplexador de 2:1 um teste exaustivo, determinar os resultados da compactação de respostas através das três alternativas consideradas. Em qual dos casos será maior a probabilidade de mascaramento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 de circuitos sequenciai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À excepção do teste determinístico, através de vectores armazenados em ROM, as restantes técnicas descritas para a aplicação de vectores de teste (teste exaustivo ou pseudo-exaustivo, geração pseudo-aleatória de vectores de teste) não são aplicáveis em circuitos sequencia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compactação de respostas, pelos métodos considerados, continuará válida agora para o caso dos circuitos sequenciai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 de circuitos sequenciai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técnicas de projecto para a testabilidade já conhecidas (nomeadamente o projecto com varrimento) eliminam o carácter sequencial do circuito, viabilizando os métodos de auto-teste apresentados para os circuitos combinatóri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próprios elementos de memória (FF) podem integrar as estruturas que efectuam a geração pseudo-aleatória de vectores e a compactação de respostas por análise de assinatur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 de macro-célula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introdução deste nível hierárquico facilita a consideração dos problemas de teste associados ao uso de blocos complexos que os projectistas têm à disposição para o projecto de ASIC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Cada macro-célula dispõe dos seus próprios recursos de auto-teste, baseados nos princípios já descritos, sendo necessário proceder à sua integração na estratégia global de auto-teste definida para os níveis hierárquicos superio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 de macro-células de baixa / média complexida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inclusão de macro-células de baixa / média complexidade, como é o caso de blocos de memória, implica a consideração de recursos de auto-teste relativamente homogéneo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O auto-teste de ROMs pode fazer-se pela leitura do conteúdo de todas as posições e pela sua compactação por análise de assinatu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O auto-teste de RAMs constitui já um exemplo de média complexidade, pela variedade de modelos de faltas que são normalmente considera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Objectiv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alientar a importância do auto-teste incorporado como componente do projecto para a testabilida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presentar os procedimentos e as estruturas mais comuns para a implementação de funções de auto-teste incorpora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alientar a importância da infra-estrutura BST para aceder às funções de auto-teste e permitir a implementação de estratégias hierárquic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 de macro-células de maior complexida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disponibilidade de blocos complexos (e.g. um microcontrolador), que integram diferentes tipos de circuitos, tornou indispensável a definição de um interface que facilite o acesso às estruturas de auto-teste neles prese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heterogeneidade das funções de auto-teste, e também a necessidade de se protegerem os direitos de propriedade intelectual, justificam a definição de uma norma IEEE para este efei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Auto-teste de mega-células : âmbito da proposta IEEE P1500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Esta proposta pretende definir um méto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Para o teste de componentes que contenham mega-células reutilizáve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Que seja independente da funcionalidade do componente ou das mega-célul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Que defina os requisitos de testabilidade para a detecção e o diagnóstico, facilitando a inter-operabilidade entre células de diferentes fabrica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Que seja utilizável com todas as classes de células, incluindo as hierárqu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terface entre funções de auto-teste e a infra-estrutura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acesso a funções de auto-teste existentes num componente está naturalmente facilitado se existir uma infra-estrutura BST, já qu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ão são requeridos pinos específicos para aceder ao controlador de auto-teste, podendo para o efeito ser usado o TA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orma IEEE 1149.1 define uma instrução opcional chamada RUNBIST, que normaliza o acesso às funções de auto-teste existentes, independentemente do fabricante e das funções realizadas pelo circui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rquitectura de um componente BST com auto-tes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791320" y="1752480"/>
          <a:ext cx="34002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752480"/>
                    <a:ext cx="34002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4876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controlador de auto-teste ao nível do circuito integrado efectua o interface entre a infra-estrutura BST e as estruturas de auto-teste individuais, usando para o efeito o barramento de auto-teste intern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rquitectura de um componente BST com auto-tes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controlador de auto-teste é necessário para sequenciar o funcionamento das diversas funções de auto-teste prese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próprio registo BST pode ser usado para a aplicação de vectores e captura de respostas, e.g. para a geração pseudo-aleatória de vectores de teste e para a compactação de respostas por análise de assinatura (através de células BST modificada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instrução RUNBIST revisitad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s principais especificações da norma IEEE 1149.1 a respeito de RUNBIST são as seguint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As funções de auto-teste executam apenas no estado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Run Test / Id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A duração do auto-teste tem que estar especificada (número de ciclos de relógio necessári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O registo de dados seleccionado por esta instrução deverá conter o resultado do auto-teste, após ter tido lugar o número de ciclos de relógio especifica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instrução RUNBIST revisitad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o exemplo simples de aplicação, recomenda-se o projecto de estruturas de auto-teste para o caso de um componente BST cuja lógica interna implementa apenas um multiplexador de 2: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gestão: recorrer à geração pseudo-aleatória de vectores de teste e à compactação de respostas por análise de assinatura, usando para o efeito as próprias células do registo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auto-teste hierárquic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existência de componentes BST com auto-teste permite a implementação de uma estratégia de auto-teste hierárqu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stas circunstâncias, a carta de circuito impresso deve conter um controlador de auto-teste (componente), que será responsável pela implementação do protocolo de teste que foi descrito (teste da infra-estrutura BST, teste das ligações, teste dos component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auto-teste hierárquic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existência de uma infra-estrutura BST no controlador da carta permite implementar uma estratégia hierárquica em que o BST tanto é usado ao nível da carta como do siste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corde-se no entanto que o BST foi previsto para o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teste estrutural de cartas de circuito impresso digitai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existindo restrições na sua extensão ao nível do sistema (recomenda-se como exercício a sua identificação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auto-teste hierárquico: IEEE 1149.5 e IEEE P1500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norma IEEE 1149.5 (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tandard for Test and Maintenance Bus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 define um barramento de teste ao nível do sistema, composto por 4+1 (MMD, MSD, MCTL, MCLK, MPR) linh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definição de soluções que permitam usar a norma IEEE 1149.1 também a este nível apresenta no entanto a vantagem de permitir a rentabilização dos mesmo recursos, existindo várias propostas nesse sentido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eú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762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presentação geral da arquitectura de auto-teste num circuito integra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Funções e estruturas para o auto-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Circuitos combinatór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Circuitos sequencia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Macro-célul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Interface entre auto-teste e a infra-estrutura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Projecto para a testabilidade e auto-teste no processador Pentium Pr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Projecto para a testabilidade e auto-teste no Pentium Pr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É necessário encontrar o melhor ponto de equilíbrio entre a área de silício reservada para a lógica funcional e aquela que se disponibiliza para as funções de auto-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exclusão do projecto para a testabilidade não é possível, mas é necessário recordar que a área de silício gasta para este fim poderia ser usada para melhorar o desempenho, aumentando as probabilidades de sucesso comercial do produ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Projecto para a testabilidade e auto-teste no Pentium Pr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s principais requisitos que orientaram o desenvolvimento das infra-estruturas de testabilidade no processador Pentium Pro foram as seguint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Não ter qualquer impacto negativo sobre o desempenh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Ocupar a mínima área de silício possí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Serem tanto quanto possível polivalentes (apoiar as tarefas de depuração, teste de produção, etc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Estarem incluídas na especificação inicial do projec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Projecto para a testabilidade e auto-teste no Pentium Pr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54100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imes New Roman"/>
              </a:rPr>
              <a:t>Referência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: A. Carbine, D. Feltham, 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ntium Pro Processor Design for Test and Debug,”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EEE Design and Test of Computers</a:t>
            </a:r>
            <a:r>
              <a:rPr b="0" lang="pt-PT" sz="1800" spc="-1" strike="noStrike">
                <a:solidFill>
                  <a:srgbClr val="000000"/>
                </a:solidFill>
                <a:latin typeface="Times New Roman"/>
              </a:rPr>
              <a:t>, Julho-Setembro de 1999, pp. 77-8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entium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1629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Projecto para a testabilidade e auto-teste no Pentium Pr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infra-estrutura BST do Pentium Pro suporta sete instruções públicas e um largo número de instruções privadas, que proporcionam o acesso a funções de teste e depuraçã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can-out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: permite a observação de 2.000 nós internos do processador (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napshot</a:t>
            </a: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 /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ignatur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Debug mod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: suporta o funcionamento em modo de teste interactivo, após o qual pode ser retomada a execução normal do progra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Projecto para a testabilidade e auto-teste no Pentium Pr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Internal breakpoint mechanism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: pode ser configurado para vários eventos internos e para as acções de depuração subseque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Microcode updat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: permite a modificação temporária de secções de micro-código para facilitar operações de teste e depuraçã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Century Schoolbook"/>
              </a:rPr>
              <a:t>DDQ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 mod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: uma instrução BST privada inibe os blocos que consomem corrente estática e permite testes por medida de I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Century Schoolbook"/>
              </a:rPr>
              <a:t>DDQ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Projecto para a testabilidade e auto-teste no Pentium Pr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Principais facilidades de auto-teste incorporad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Existe uma rotina de auto-teste que tem por objectivo principal comutar o valor lógico numa elevada percentagem de nós internos, para ser usada com o teste do tipo </a:t>
            </a:r>
            <a:r>
              <a:rPr b="0" i="1" lang="en-GB" sz="2400" spc="-1" strike="noStrike">
                <a:solidFill>
                  <a:srgbClr val="000000"/>
                </a:solidFill>
                <a:latin typeface="Century Schoolbook"/>
              </a:rPr>
              <a:t>burn-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Várias PLA são testadas com o auxílio de LFS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L2 PBIST: auto-teste incorporado programável para o teste de produção da memória cache L2 (256 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Projecto para a testabilidade e auto-teste no Pentium Pr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eficácia do teste de produção mede-se em última análise pelo número de componentes com defeito que são enviados para os clientes (em partes por milhão) e não pela cobertura de faltas atingid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funções de testabilidade e auto-teste requereram 4% da área de silício do CPU e 6% da correspondente à memória cache L2, sem afectarem a frequência de relógio ou o número de instruções realizadas por ciclo de relóg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 incorpora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O auto-teste está presente quando os recursos para a realização do teste (geração / aplicação de vectores, captura / avaliação de respostas) estão incluídos no interior do circui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s funções de auto-teste ao nível do CI são normalmente implementadas em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hardwar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(em alguns casos em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firmwar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, tendendo a ser implementadas em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oftwar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à medida que passamos para o nível do siste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 incorpora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incipais questões a considerar no project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bertura de faltas pretendi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brecarga de teste admissível (área de silício, desempenho do circuit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ustos e benefício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stos: a sobrecarga de teste e seus reflexos durante o projecto (tempo e recursos humanos e materia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s ganhos principais são na passagem do protótipo à produção, no teste de produção e nas operações de manutenção e diagnóst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rquitectura de auto-teste num circuito (representação geral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51814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666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2819520"/>
            <a:ext cx="1523880" cy="266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3733920"/>
            <a:ext cx="1371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ador do auto-t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2819520"/>
            <a:ext cx="3200400" cy="533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2895480"/>
            <a:ext cx="3200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ação e aplicação de v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952880"/>
            <a:ext cx="3200400" cy="53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5029200"/>
            <a:ext cx="3200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tura / avaliação de respo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2895480"/>
            <a:ext cx="747720" cy="371520"/>
          </a:xfrm>
          <a:prstGeom prst="rightArrow">
            <a:avLst>
              <a:gd name="adj1" fmla="val 50000"/>
              <a:gd name="adj2" fmla="val 50315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2590920"/>
            <a:ext cx="3200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050720" y="5029200"/>
            <a:ext cx="747720" cy="371520"/>
          </a:xfrm>
          <a:prstGeom prst="rightArrow">
            <a:avLst>
              <a:gd name="adj1" fmla="val 50000"/>
              <a:gd name="adj2" fmla="val 50315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3886200"/>
            <a:ext cx="747720" cy="371520"/>
          </a:xfrm>
          <a:prstGeom prst="rightArrow">
            <a:avLst>
              <a:gd name="adj1" fmla="val 50000"/>
              <a:gd name="adj2" fmla="val 50315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962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365760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886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ógica a te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1828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2362320"/>
            <a:ext cx="6095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590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sso às funções de auto-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1752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das prim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ídas prim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: geração e aplicação dos vectores - principais problema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eração prévia e armazenamento em ROM: área de silíc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ste exaustivo ou pseudo-exaustivo (quando se recorre à partição do circuito): complexidade da partição, tempo de aplicação do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eração pseudo-aleatória de vectores de teste: é necessário recorrer à simulação de faltas (mas a área de silício necessária e o esforço de projecto são reduzido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"/>
          <p:cNvSpPr/>
          <p:nvPr/>
        </p:nvSpPr>
        <p:spPr>
          <a:xfrm>
            <a:off x="8774280" y="1909800"/>
            <a:ext cx="177480" cy="35568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747280" y="99216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40480" y="1047600"/>
            <a:ext cx="555840" cy="973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73880" y="1047600"/>
            <a:ext cx="1167120" cy="1936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73880" y="1825560"/>
            <a:ext cx="1167120" cy="19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96320" y="1074600"/>
            <a:ext cx="272880" cy="13680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73880" y="963720"/>
            <a:ext cx="1167120" cy="8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001000" y="1854360"/>
            <a:ext cx="272880" cy="134640"/>
          </a:xfrm>
          <a:prstGeom prst="rightArrow">
            <a:avLst>
              <a:gd name="adj1" fmla="val 50000"/>
              <a:gd name="adj2" fmla="val 506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1436760"/>
            <a:ext cx="272880" cy="135000"/>
          </a:xfrm>
          <a:prstGeom prst="rightArrow">
            <a:avLst>
              <a:gd name="adj1" fmla="val 50000"/>
              <a:gd name="adj2" fmla="val 50533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74280" y="1463760"/>
            <a:ext cx="177480" cy="357120"/>
          </a:xfrm>
          <a:prstGeom prst="downArrow">
            <a:avLst>
              <a:gd name="adj1" fmla="val 50000"/>
              <a:gd name="adj2" fmla="val 50304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73880" y="1352520"/>
            <a:ext cx="116712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47280" y="68580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02600" y="880920"/>
            <a:ext cx="2222280" cy="12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: captura e avaliação das respostas - principais problema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rmazenamento das respostas em ROM e comparação vector a vector: mantém como problema principal a área de silíc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Compactação de respostas (existem várias alternativas: contagem de transições, contagem de 1s, análise de assinatura, etc.): é possível o mascaramento de faltas -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aliasing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(mas os recursos necessários e o tempo de teste são muito inferior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"/>
          <p:cNvSpPr/>
          <p:nvPr/>
        </p:nvSpPr>
        <p:spPr>
          <a:xfrm>
            <a:off x="8774280" y="1909800"/>
            <a:ext cx="177480" cy="35568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747280" y="99216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40480" y="1047600"/>
            <a:ext cx="555840" cy="973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73880" y="1047600"/>
            <a:ext cx="1167120" cy="193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73880" y="1825560"/>
            <a:ext cx="1167120" cy="1954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6320" y="1074600"/>
            <a:ext cx="272880" cy="13680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73880" y="963720"/>
            <a:ext cx="1167120" cy="8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001000" y="1854360"/>
            <a:ext cx="272880" cy="134640"/>
          </a:xfrm>
          <a:prstGeom prst="rightArrow">
            <a:avLst>
              <a:gd name="adj1" fmla="val 50000"/>
              <a:gd name="adj2" fmla="val 506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1436760"/>
            <a:ext cx="272880" cy="135000"/>
          </a:xfrm>
          <a:prstGeom prst="rightArrow">
            <a:avLst>
              <a:gd name="adj1" fmla="val 50000"/>
              <a:gd name="adj2" fmla="val 50533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74280" y="1463760"/>
            <a:ext cx="177480" cy="357120"/>
          </a:xfrm>
          <a:prstGeom prst="downArrow">
            <a:avLst>
              <a:gd name="adj1" fmla="val 50000"/>
              <a:gd name="adj2" fmla="val 50304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73880" y="1352520"/>
            <a:ext cx="116712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47280" y="68580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02600" y="880920"/>
            <a:ext cx="2222280" cy="12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uto-teste: controlador das operaçõ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É responsável pela calendarização das várias fases que integram o auto-teste (conforme o tipo de blocos a testar) e por sequenciar as operações que têm lugar em cada fa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fectua o interface com o exterior, permitindo integrar o auto-teste na estratégia global de teste do siste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/>
          <p:nvPr/>
        </p:nvSpPr>
        <p:spPr>
          <a:xfrm>
            <a:off x="8774280" y="1909800"/>
            <a:ext cx="177480" cy="35568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47280" y="99216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40480" y="1047600"/>
            <a:ext cx="555840" cy="9734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73880" y="1047600"/>
            <a:ext cx="1167120" cy="193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73880" y="1825560"/>
            <a:ext cx="1167120" cy="19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96320" y="1074600"/>
            <a:ext cx="272880" cy="13680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73880" y="963720"/>
            <a:ext cx="1167120" cy="8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001000" y="1854360"/>
            <a:ext cx="272880" cy="134640"/>
          </a:xfrm>
          <a:prstGeom prst="rightArrow">
            <a:avLst>
              <a:gd name="adj1" fmla="val 50000"/>
              <a:gd name="adj2" fmla="val 5066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1436760"/>
            <a:ext cx="272880" cy="135000"/>
          </a:xfrm>
          <a:prstGeom prst="rightArrow">
            <a:avLst>
              <a:gd name="adj1" fmla="val 50000"/>
              <a:gd name="adj2" fmla="val 50533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74280" y="1463760"/>
            <a:ext cx="177480" cy="357120"/>
          </a:xfrm>
          <a:prstGeom prst="downArrow">
            <a:avLst>
              <a:gd name="adj1" fmla="val 50000"/>
              <a:gd name="adj2" fmla="val 50304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73880" y="1352520"/>
            <a:ext cx="116712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47280" y="685800"/>
            <a:ext cx="176040" cy="355680"/>
          </a:xfrm>
          <a:prstGeom prst="downArrow">
            <a:avLst>
              <a:gd name="adj1" fmla="val 50000"/>
              <a:gd name="adj2" fmla="val 50511"/>
            </a:avLst>
          </a:prstGeom>
          <a:solidFill>
            <a:srgbClr val="97ba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02600" y="880920"/>
            <a:ext cx="2222280" cy="12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cp:lastPrinted>1999-11-11T12:24:17Z</cp:lastPrinted>
  <dcterms:modified xsi:type="dcterms:W3CDTF">2000-01-04T15:22:48Z</dcterms:modified>
  <cp:revision>190</cp:revision>
  <dc:subject/>
  <dc:title>Arquitectura mínima</dc:title>
</cp:coreProperties>
</file>