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Geração do programa de teste para uma carta com BS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Universidade do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2CADC454-8E0A-47AC-8B6B-5EB0D37012F4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521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Geração do programa de teste para uma carta com BST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formação necessária para testar o grupo CI1 + CI2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 aplicação HILO gerou cinco vectores de teste que detectam 100% das faltas ss@ nos pinos de ambos os componen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19320" y="3429000"/>
          <a:ext cx="8153280" cy="271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815328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segundo grupo sem BST (CI6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666880" y="1600200"/>
          <a:ext cx="482148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482148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formação necessária para testar o grupo CI6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90720" y="1981080"/>
          <a:ext cx="8076960" cy="419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807696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formação necessária para testar o grupo CI6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 aplicação HILO gerou cinco vectores de teste que detectam 100% das faltas ss@ nos pinos de CI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0" y="2895480"/>
          <a:ext cx="6858000" cy="36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68580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formação necessária para o teste dos componentes BST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1752480"/>
          <a:ext cx="8610480" cy="302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861048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914400" y="4648320"/>
          <a:ext cx="8305920" cy="1525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648320"/>
                    <a:ext cx="8305920" cy="15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s vectores de teste (paralelos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ma versão modificada do algoritmo do auto-diagnóstico gerou seis vectores de teste para a completa detecção de curto-circuitos entre as 24 ligações completamente BST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90720" y="3809880"/>
          <a:ext cx="8686800" cy="20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09880"/>
                    <a:ext cx="86868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s vectores de teste serializad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14400" y="2057400"/>
          <a:ext cx="8609040" cy="346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860904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programa de tes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3880" y="1752480"/>
          <a:ext cx="6705720" cy="48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670572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bjectiv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presentar algumas questões práticas do BST através de um caso re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alisar a implementação do protocolo de teste, através do conjunto de instruções propos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ermitir aos alunos adquirir a experiência necessária para o desenvolvimento de pequenos programas de teste para situações específic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ermitir sessões práticas de laboratór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nteúd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carta de demonstraçã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informação necessária à geração do programa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vectores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programa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carta de demonstração (diagrama de blocos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81080" y="1523880"/>
          <a:ext cx="6291360" cy="46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29136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formação necessária para a verificação da infra-estrutura B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38080" y="2133720"/>
          <a:ext cx="8534520" cy="323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853452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3040" y="151920"/>
            <a:ext cx="8781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formação necessária para o teste das ligações completamente BST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úmero e identificação das cadeias B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ligação está ligada à massa ou a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a os pinos de saída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úmero de pinos e localização da célula de saída, da célula de controlo (se existir) e do valor que coloca a saída em alta impedâ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a os pinos de entrada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úmero de pinos e localização da célula de ent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629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formação necessária para o teste das ligações completamente BST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a os pinos bidireccionai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úmero de pinos e localização da célula de saída, da célula de entrada, da célula de controlo e do valor que coloca a saída em alta impedâ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a os pinos de entrada primária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úmero de pinos, identificação de cada um e do valor que coloca o seu canal de teste em alta impedâ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a os pinos de saída primária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úmero de pinos e identificação de cada 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grupo de componentes sem BST CI1 + CI2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47920" y="1752480"/>
          <a:ext cx="685800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858000" cy="41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Informação necessária para testar o grupo CI1 + CI2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90720" y="2133720"/>
          <a:ext cx="8305560" cy="326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8305560" cy="32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dcterms:modified xsi:type="dcterms:W3CDTF">2000-01-04T15:22:20Z</dcterms:modified>
  <cp:revision>113</cp:revision>
  <dc:subject/>
  <dc:title>Arquitectura mínima</dc:title>
</cp:coreProperties>
</file>