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Uma implementação Windows do controlador B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Universidade do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C73D3D6B-C1A1-41D7-B09A-285D112B4917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33720" y="17521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Uma implementação Windows do controlador BST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133360" y="403848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BST ao nível da CCI: Exempl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screva um programa de teste que detecte o curto-circuito devido a X16 na CCI de demonstração (TDO-TDI de CI4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screva um programa de teste que detecte o curto-circuito devido a X9 na CCI de demonstração (entre ligações completamente BST que têm células em ambas as cadeia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bjectiv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ermitir aos alunos escrever e executar programas de teste para a carta de demonstraçã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oporcionar uma ferramenta para a validação de programas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ermitir a realização de sessões práticas de laboratór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nteúd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recursos necessários à execução do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aplicação Windows para o controlador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rra de controlo do programa de tes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ção de est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n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Área de ediçã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Recursos necessários à execução do tes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m PC com Windows 95, uma fonte de alimentação de 5 V, a carta de demonstração e o cabo de ligaçã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" name="figura6.1" descr=""/>
          <p:cNvPicPr/>
          <p:nvPr/>
        </p:nvPicPr>
        <p:blipFill>
          <a:blip r:embed="rId1"/>
          <a:stretch/>
        </p:blipFill>
        <p:spPr>
          <a:xfrm>
            <a:off x="4419720" y="29718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aplicação que implementa o controlador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33720" y="1828800"/>
          <a:ext cx="561168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828800"/>
                    <a:ext cx="561168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barra de controlo do programa de tes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90720" y="1981080"/>
          <a:ext cx="8762760" cy="34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876276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formação de estad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62120" y="1752480"/>
          <a:ext cx="8458200" cy="38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8458200" cy="38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Os menus do Tappe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icheir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Novo, Abrir..., Gravar, Gravar Como... e Sai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dita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Desfazer, Recortar, Copiar, Colar, Apagar e Limpar todos os pontos de parag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jud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Conteúdo, Procurar ajuda sobre..., Controlador do TAP e Acerca..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477120" y="1600200"/>
          <a:ext cx="312408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600200"/>
                    <a:ext cx="31240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477120" y="3124080"/>
          <a:ext cx="313344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124080"/>
                    <a:ext cx="313344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477120" y="4724280"/>
          <a:ext cx="3133440" cy="156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724280"/>
                    <a:ext cx="313344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área de ediçã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área de edição é usada para escrever ou modificar programas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sintaxe de cada linha é a seguint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6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tiqueta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instrução  operand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omentári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6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6920" indent="0">
              <a:spcBef>
                <a:spcPts val="601"/>
              </a:spcBef>
              <a:buNone/>
              <a:tabLst>
                <a:tab algn="l" pos="0"/>
                <a:tab algn="l" pos="2090880"/>
                <a:tab algn="l" pos="437832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uma etiqueta deve ser seguida por dois pontos e o texto após ponto e vírgula é considerado como comentário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cp:lastPrinted>1998-05-28T09:10:12Z</cp:lastPrinted>
  <dcterms:modified xsi:type="dcterms:W3CDTF">2000-01-04T15:23:05Z</dcterms:modified>
  <cp:revision>110</cp:revision>
  <dc:subject/>
  <dc:title>Arquitectura mínima</dc:title>
</cp:coreProperties>
</file>