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A tecnologia de teste BST (IEEE 1149.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8AE95598-E54F-4C83-9E36-8FB19124B727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09680" y="1752480"/>
            <a:ext cx="7467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entury Schoolbook"/>
              </a:rPr>
              <a:t>A tecnologia de teste BST</a:t>
            </a:r>
            <a:r>
              <a:rPr b="0" lang="en-GB" sz="4800" spc="-1" strike="noStrike">
                <a:solidFill>
                  <a:srgbClr val="000000"/>
                </a:solidFill>
                <a:latin typeface="Century Schoolbook"/>
              </a:rPr>
              <a:t> (IEEE 1149.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09680" y="335268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célula BS básic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rês modos de funcionament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parê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olabilid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servabilid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19520" y="3276720"/>
          <a:ext cx="5135400" cy="24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513540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715000" y="1600200"/>
          <a:ext cx="3981600" cy="45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00200"/>
                    <a:ext cx="3981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S: O protocolo básic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e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Inserir um novo vector de teste (mux esquerdo em deslocamento, da direita em qualquer mod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plicar o vector de teste (mux esquerdo em qualquer modo, da direita em controlabilidad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apturar as respostas (mux esquerdo em captura, mux da direita em controlabilidad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Deslocar as respostas para o exterior (mux esquerdo em deslocamento, da direita em qualquer mod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086600" y="457200"/>
          <a:ext cx="2620800" cy="12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57200"/>
                    <a:ext cx="26208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teste via BS é lento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deslocamento série de cada vector e respectivas respostas pode ser inaceitavelmente lento para o teste de um CI, que pode requerer centenas de milhar de vector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tudo, se considerarmos o domínio principal de aplicação do BST (teste estrutural de CCI), veremos que o reduzido número de vectores de teste necessários não levanta questões de rapidez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s registos de dados de teste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registo BS compreende o conjunto de células BS presentes no circuito e é obrigatório em cada componente BST (pelo menos duas instruções seleccionam este registo: EXTEST e SAMPLE / PRELOAD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registo d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Bypass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é também obrigatório e permite encurtar o comprimento total da cadeia série na CCI (este registo tem um só bit e é seleccionado pela instrução BYPAS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s registos de dados de teste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registo de identificação é opcional e tem por função proporcionar uma sequência de 32 bits que identifica de forma única todos os componentes que suportam a instrução IDCO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registos de dados de teste do utilizador, também opcionais, têm normalmente por objectivo permitir o acesso a estruturas de testabilidade definidas pelo projectis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registo de instrução: Instruções obrigatórias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instrução EXTEST selecciona o registo de BS e impõe o modo de teste externo em todas as suas células, desacoplando a lógica interna dos pinos (EXTEST tem código de instrução pré-definido, com todos os bits a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instrução SAMPLE / PRELOAD também selecciona o registo BS, mas com as células respectivas em modo transparente (esta instrução não tem código pré-definid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registo de instrução: Instruções obrigatórias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er EXTEST quer SAMPLE / PRELOAD são usadas para realizar o teste de ligações, sendo S/P usada com o primeiro vector (porquê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instrução BYPASS selecciona o registo com o mesmo nome e permite um percurso de um bit apenas, nos componentes não relevantes, face à operação de teste actual (BYPASS tem código pré-definido e é carregada automaticamente no registo de instrução aquando da inicializaçã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controlador do TA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o TAP é uma pequena máquina de estados que gera os principais sinais de controlo para a infra-estrutura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o TAP define qual o registo a colocar entre TDI e TDO, para.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turar os valores lógicos presentes nas entradas paralelas das suas célul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locar dados através das suas célul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ualizar as saídas paralelas das suas células com os valores deslo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iagrama de transição de estados do controlador do TA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66880" y="1600200"/>
          <a:ext cx="487836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487836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ados do controlador do TAP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Captu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Shif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Updat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-DR ou -IR) são os estados onde o registo seleccionado efectua as três principais operaçõ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No estado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Test Logic Rese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o registo BS está em modo transparente e a lógica funcional do componente em operação norm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estado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Run Test / Idl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é usado para efectuar operações de teste especiais (e.g. para executar funções de auto-teste incorporado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resentar em detalhe a tecnologia de teste definida na norma IEEE 1149.1 (BST), enfatizando os aspectos de implementação e o domínio de aplic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ferir ao aluno conhecimentos suficientes para projectar e implementar uma infra-estrutura 1149.1 simp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stados do controlador do TAP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s estados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Selec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Exit1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Exit2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-DR ou -IR) são estados temporári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Exit1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Exit2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, combinados com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Paus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-DR ou -IR), permitem interromper temporariamente o deslocamento de dad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s estados d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Selec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permitem a escolha do tipo de registo (-DR ou -IR) a colocar entre TDI e T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rolador do TAP: Detalhes de ordem temporal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transições de estado ocorrem à transição ascendente de TC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acções a ter lugar num estado (e.g. captura, deslocamento ou actualização) ocorrem à transição descendente de TC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BSDL: 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Boundary Scan Description Languag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BSDL descreve a infra-estrutura BS e a sua operação (foi aprovada como norma IEEE 1149.1b em 199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funcionalidade das instruções obrigatórias não está descrita em BSDL (e.g. uma descrição BSDL não inclui o registo de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Bypass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Ferramentas de CAD que beneficiam do BSDL: Análise de testabilidade, geração automática de vectores de teste, diagnóstico de faltas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HSDL: 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Hierarchical Scan DL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 e SVF: 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Serial Vector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HSDL complementa o BSDL, descrevendo a infra-estrutura 1149.1 ao nível da CC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SVF foi desenvolvido em conjunto pela Teradyne e pela Texas Instruments, para permitir uma forma independente de representar  vectores de teste IEEE 1149.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Um ficheiro SVF contém sequências ASCII que descrevem comandos de teste e os respectivos parâmetr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629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A aplicação Scan Educator (TI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848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xemplo: uma infra-estrutura BST numa MACH2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etende-se implementar uma infra-estrutura BST muito simples, a rodear um núcleo interno que implementa apenas a função ident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67080" y="1649520"/>
          <a:ext cx="52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49520"/>
                    <a:ext cx="52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struções a suporta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etendem-se apenas as três instruções obrigatórias da infra-estrutura 1149.1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352680"/>
          <a:ext cx="8229600" cy="192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8229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aídas do controlador do TA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São necessários os seguintes sinai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BSUPD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Boundary scan 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INTRST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ternal res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IRSHF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shift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IRCAP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capture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IRUPD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Instruction register 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RSHF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ata register shift</a:t>
            </a: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, DRCAP: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Data register cap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MUXCTR: selecção de dados ou instruçõ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TDOACT: controlo de estado em T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467480" y="1752480"/>
          <a:ext cx="22100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1752480"/>
                    <a:ext cx="22100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élulas do registo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figuração que permite a todos os FF partilharem o mesmo sinal de relógi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124080" y="2743200"/>
          <a:ext cx="5183280" cy="34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743200"/>
                    <a:ext cx="518328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élulas do registo de instruçã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8120" y="2209680"/>
          <a:ext cx="476244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476244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desenvolvimento do BST e o seu domínio de aplic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arquitectura BST e o porto de acesso ao teste (TAP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élula BS bá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s registos de dados de tes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registo de instru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controlador do T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élula do registo de BP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que não necessita do andar de retençã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352680" y="2895480"/>
          <a:ext cx="361980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895480"/>
                    <a:ext cx="36198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Verificação do project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28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Qual a sequência de estados no contro-lador do TAP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24080" y="1676520"/>
          <a:ext cx="6400800" cy="45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64008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orquê o teste por varrimento periférico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duas razões que levaram ao desenvolvimento do BST, em meados de 80, foram as seguint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rescente complexidade dos circuitos integrados (CI) tornou excessivamente difícil o desenvolvimento de programas para o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este funcion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e cartas de circuito impresso (CCI) complex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iniaturização associada à montagem superficial e ao progresso nas tecnologias de encapsulamento tornou muito difícil o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teste em circui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por requerer o acesso físico aos nós internos da CC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domínio de aplicação do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BST destina-se ao teste estrutural de cartas de circuito impresso digita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lavras-chave: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estrutural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digital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C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âmbito relativamente estreito do BST contribuiu para a sua aceitação e para o rápido desenvolvimento de produtos, mas o potencial de uma infra-estrutura de teste embebida nos circuitos permite antever áreas de aplicação que se estendem muito para além da inici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conceito básico do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BST permite desacoplar a lógica interna dos pinos e permite o acesso directo a qualquer nó da CCI, sem os conflitos de acesso inerentes ao teste em-circuito (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backdriving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895480" y="3886200"/>
          <a:ext cx="519300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1930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porto de acesso ao teste (TAP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TDI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Data Inpu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: A entrada série de dados de teste (TDI em aberto é lido como </a:t>
            </a: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TDO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Data Outpu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: A saída série de dados de teste (em alta impedância, excepto quando decorre uma operação de deslocament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TCK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Clock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: Relógio para a lógica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TMS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Test Mode Selec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: Entrada de controlo que define o modo de funcionamento da lógica de teste (TMS em aberto é lido como </a:t>
            </a: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arquitectura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além do registo BS, a lógica de teste inclui outros registos de dados, um registo de instrução e uma máquina de estados que implementa o controlador do TA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7800" y="1676520"/>
          <a:ext cx="40194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40194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rotocolo de acesso à infra-estrutura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o TAP coloca o registo de instrução no percurso TDI-T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sequência adequada de bits (instrução) é inserida, carregando o registo de instrução para seleccionar o registo de dados pretendi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o TAP coloca o registo de dados seleccionado no percurso TDI-T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vectores de teste podem agora ser inseridos no registo de dados seleccion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21:26Z</dcterms:modified>
  <cp:revision>163</cp:revision>
  <dc:subject/>
  <dc:title>Arquitectura mínima</dc:title>
</cp:coreProperties>
</file>