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6800" y="151920"/>
            <a:ext cx="91216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87320" y="1828440"/>
            <a:ext cx="9121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87320" y="4057200"/>
            <a:ext cx="9121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6800" y="151920"/>
            <a:ext cx="91216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87320" y="1828440"/>
            <a:ext cx="4451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461200" y="1828440"/>
            <a:ext cx="4451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87320" y="4057200"/>
            <a:ext cx="4451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461200" y="4057200"/>
            <a:ext cx="4451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6800" y="151920"/>
            <a:ext cx="91216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87320" y="1828440"/>
            <a:ext cx="2936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71440" y="1828440"/>
            <a:ext cx="2936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55560" y="1828440"/>
            <a:ext cx="2936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87320" y="4057200"/>
            <a:ext cx="2936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71440" y="4057200"/>
            <a:ext cx="2936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955560" y="4057200"/>
            <a:ext cx="2936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66800" y="151920"/>
            <a:ext cx="91216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87320" y="1828440"/>
            <a:ext cx="9121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6800" y="151920"/>
            <a:ext cx="91216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87320" y="1828440"/>
            <a:ext cx="9121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6800" y="151920"/>
            <a:ext cx="91216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87320" y="1828440"/>
            <a:ext cx="4451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461200" y="1828440"/>
            <a:ext cx="4451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6800" y="151920"/>
            <a:ext cx="91216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66800" y="151920"/>
            <a:ext cx="912168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6800" y="151920"/>
            <a:ext cx="91216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87320" y="1828440"/>
            <a:ext cx="4451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61200" y="1828440"/>
            <a:ext cx="4451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87320" y="4057200"/>
            <a:ext cx="4451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6800" y="151920"/>
            <a:ext cx="91216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87320" y="1828440"/>
            <a:ext cx="4451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1200" y="1828440"/>
            <a:ext cx="4451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461200" y="4057200"/>
            <a:ext cx="4451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6800" y="151920"/>
            <a:ext cx="91216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87320" y="1828440"/>
            <a:ext cx="4451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1200" y="1828440"/>
            <a:ext cx="4451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87320" y="4057200"/>
            <a:ext cx="9121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6800" y="151920"/>
            <a:ext cx="91216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87320" y="1828440"/>
            <a:ext cx="9121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"/>
          <p:cNvSpPr/>
          <p:nvPr/>
        </p:nvSpPr>
        <p:spPr>
          <a:xfrm>
            <a:off x="787320" y="6248520"/>
            <a:ext cx="88902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8188200"/>
                <a:tab algn="l" pos="8229600"/>
                <a:tab algn="l" pos="9144000"/>
                <a:tab algn="l" pos="10058400"/>
              </a:tabLst>
            </a:pPr>
            <a:r>
              <a:rPr b="1" lang="pt-PT" sz="1000" spc="-1" strike="noStrike">
                <a:solidFill>
                  <a:srgbClr val="000000"/>
                </a:solidFill>
                <a:latin typeface="Century Schoolbook"/>
              </a:rPr>
              <a:t>LEONARDO INSIGHT II - O teste misto (IEEE 1149.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188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© J. M. Martins Ferreira - Universidade do Porto (FEUP / DEEC)</a:t>
            </a:r>
            <a:r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fld id="{380D93AB-92FC-47DE-80EF-010F5972B3D6}" type="slidenum"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523880"/>
            <a:ext cx="9906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2209680" y="1752480"/>
            <a:ext cx="73915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Century Schoolbook"/>
              </a:rPr>
              <a:t>O teste misto (IEEE 1149.4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209680" y="3429000"/>
            <a:ext cx="69343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J. M. Martins Ferrei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FEUP / DEEC - Rua dos Bra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4050-123 Porto - PORTUG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Tel. 351-22-2041748 / Fax: 351-22-20036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(jmf@fe.up.pt / http://www.fe.up.pt/~jm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80880" y="685800"/>
            <a:ext cx="1793520" cy="1967040"/>
            <a:chOff x="380880" y="685800"/>
            <a:chExt cx="1793520" cy="1967040"/>
          </a:xfrm>
        </p:grpSpPr>
        <p:graphicFrame>
          <p:nvGraphicFramePr>
            <p:cNvPr id="43" name=""/>
            <p:cNvGraphicFramePr/>
            <p:nvPr/>
          </p:nvGraphicFramePr>
          <p:xfrm>
            <a:off x="380880" y="685800"/>
            <a:ext cx="960480" cy="1350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685800"/>
                      <a:ext cx="960480" cy="13507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pic>
          <p:nvPicPr>
            <p:cNvPr id="45" name="INSIGHT_II" descr=""/>
            <p:cNvPicPr/>
            <p:nvPr/>
          </p:nvPicPr>
          <p:blipFill>
            <a:blip r:embed="rId3"/>
            <a:stretch/>
          </p:blipFill>
          <p:spPr>
            <a:xfrm>
              <a:off x="1108080" y="1499760"/>
              <a:ext cx="1066320" cy="11530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420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A instrução PROB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ara além das três instruções obrigatórias, a norma 1149.4 define uma quarta instrução obrigatória designada PROBE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 registo de dados seleccionado é o registo B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ada ABM liga o pino respectivo ao circuito intern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T1 e AT2 estão ligados a AB1 e AB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ligação entre os pinos funcionais analógicos e AB1 / AB2 é definida pelo registo de controlo de cada AB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ada módulo periférico digital (DBM) opera em modo transparente (como para S/P e BYPAS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6800" y="151920"/>
            <a:ext cx="8758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BYPASS, S/P e EXTES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86960" y="1828440"/>
            <a:ext cx="8737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Para além da descrição apresentada na norma 1149.1, aplicam-se as seguintes regras no 1149.4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entury Schoolbook"/>
              </a:rPr>
              <a:t>BYPASS e S/P: i) AT1 / AT2 devem estar isolados de AB1 / AB2, bem como de outras fontes de tensão; ii) todos os pinos funcionais analógicos devem estar ligados ao circuito interno; iii) todos os pinos funcionais analógicos devem estar isolados de AB1 / AB2, bem como de outras fontes de tensã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entury Schoolbook"/>
              </a:rPr>
              <a:t>EXTEST: Os ABM devem interromper a ligação entre o pino e o circuito intern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6440" y="151920"/>
            <a:ext cx="85294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Instruções opcionais 1149.4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86960" y="1828440"/>
            <a:ext cx="8433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s instruções opcionais 1149.4 são as mesmas que no 1149.1 (INTEST, ID / USERCODE, RUNBIST, CLAMP e HIGHZ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ara além da descrição apresentada na norma 1149.1, a descrição 1149.4 destas instruções inclui as regras que definem o modo de operação do TBIC e dos ABM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585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O circuito de interface ao barramento de teste (TBIC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 TBIC controlo as ligações entre o ATAP (AT1 e AT2) e o barramento de teste interno (pelo menos duas linhas de teste analógico internas — AB1 e AB2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s ABM e o TBIC asseguram a característica principal do 1149.4 — a aplicação e observação de sinais de teste analógic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 TBIC contém uma estrutura de comutação e uma estrutura de control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763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TBIC: Estrutura de comutação (1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2" name="fig12" descr=""/>
          <p:cNvPicPr/>
          <p:nvPr/>
        </p:nvPicPr>
        <p:blipFill>
          <a:blip r:embed="rId1"/>
          <a:stretch/>
        </p:blipFill>
        <p:spPr>
          <a:xfrm>
            <a:off x="825480" y="2133720"/>
            <a:ext cx="8420040" cy="343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839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TBIC: Estrutura de comutação (2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667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 estrutura de comutação do TBIC permite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igar AT1 ou AT2 a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ou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igar AT1 ou AT2 a AB1 ou AB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igar AT1 ou AT2 à fonte de tensão interna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CLAM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bter uma representação em um bit da tensão em AT1 ou AT2 (comparativamente ao valor d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 uso adequado destes modos de operação permite o teste de ligações e paramétric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420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TBIC: Estrutura de controlo (1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6" name="fig14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6108480" cy="451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420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TBIC: Estrutura de controlo (2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A estrutura de controlo do TBIC (quatro bits) faz parte do registo BS e contém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entury Schoolbook"/>
              </a:rPr>
              <a:t>Um andar de captura / deslocamento: CALIBRATE, CONTROL, DATA1 e DATA2 (a representação em um bit das tensões em AT1 e AT2 é capturada nos bits DATA1 e DATA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entury Schoolbook"/>
              </a:rPr>
              <a:t>Um andar de retenção, que define (em conjunto com o descodificador de instruções) o modo de operação da estrutura de comutaçã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entury Schoolbook"/>
              </a:rPr>
              <a:t>(as células do TBIC são semelhantes a células 1149.1, a menos do mux de saída no andar de retenção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420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Os módulos periféricos analógicos (ABM) — O coração do 1149.4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s ABM determinam o fluxo de sinais analógicos de / para os pinos funcionai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 aplicação e observação de sinais de teste através dos ABM é possível combinando o acesso série ao registo BS e o acesso de estímulos analógicos ao ATAP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ada ABM contém uma estrutura de comutação e uma estrutura de control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420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ABM: Estrutura de comutação (1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82" name="fig18" descr=""/>
          <p:cNvPicPr/>
          <p:nvPr/>
        </p:nvPicPr>
        <p:blipFill>
          <a:blip r:embed="rId1"/>
          <a:stretch/>
        </p:blipFill>
        <p:spPr>
          <a:xfrm>
            <a:off x="825480" y="2209680"/>
            <a:ext cx="8420040" cy="27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6800" y="151920"/>
            <a:ext cx="84535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Objectivo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87320" y="1828440"/>
            <a:ext cx="85089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ntroduzir o tema do teste de circuitos mist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Realçar o facto de que a norma IEEE 1149.4 é uma extensão do 1149.1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ermitir aos alunos compreender a arquitectura e funcionamento da infra-estrutura 1149.4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420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ABM: Estrutura de comutação (2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58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 estrutura de comutação dos ABM permite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sligar o circuito interno do pino funcion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mandar o pino a partir de AB1 (controlabilidad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mandar AB2 a partir do pino (observabilidad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apturar uma representação em um bit da tensão no pino (comparada com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igar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ou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ao pino (para o teste de ligaçõe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igar a tensão de uma fonte de referência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ao pino (útil para a realização de medidas paramétrica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420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ABM: Estrutura de controlo (1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86" name="fig22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6672240" cy="462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420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ABM: Estrutura de controlo (2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 estrutura de controlo de cada ABM (quatro bits) faz parte do registo BS e contém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m andar de captura / deslocamento: DATA, CONTROL, BUS1 e BUS2 (a representação em um bit da tensão no pino é capturada no andar DAT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m andar de retenção, que define (em conjunto com o descodificador de instruções) o modo de operação da estrutura de comutaçã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420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Teste de ligações com o 1149.4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667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 teste de ligações (para a detecção de circuitos abertos ou curto-circuitos) é idêntico ao 1149.1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o caso de pinos digitais, os dados são carregados directamente nos DB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o caso dos pinos analógicos, os códigos que provocam a aplicação das tensões internas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ou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aos pinos são carregadas nas estruturas de controlo dos AB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aplicação de vectores de teste e a captura de respostas começa com a instrução S/P e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lida apenas com valores digitai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(para pinos digitais ou analógico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763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1149.4: Medida de uma impedância entre um pino e massa (1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92" name="fig29" descr=""/>
          <p:cNvPicPr/>
          <p:nvPr/>
        </p:nvPicPr>
        <p:blipFill>
          <a:blip r:embed="rId1"/>
          <a:stretch/>
        </p:blipFill>
        <p:spPr>
          <a:xfrm>
            <a:off x="825480" y="2286000"/>
            <a:ext cx="8420040" cy="287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1149.4: Medida de uma impedância entre um pino e massa (2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rocedimento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jectar a corrente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na impedância desconhecida (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, através de AT1 e dos interruptores S5 e SB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edir a tensã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em AT2, ligado a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através dos interruptores SB2 e S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será então dada por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/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ssunções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&gt;&gt;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S6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SB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(queda de tensão em S6 e SB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S6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SB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&gt;&gt;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(percentagem de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que não atravessa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420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1149.4: Informações adicionais (1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96" name="p1149.4a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7854840" cy="44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420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1149.4: Informações adicionais (2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98" name="normate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7181640" cy="45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6440" y="151920"/>
            <a:ext cx="85294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Conteúdo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86960" y="1828440"/>
            <a:ext cx="8433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O âmbito do 1149.4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Apresentação geral da arquitectura 1149.4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O circuito de interface ao barramento de teste (TBIC, 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Test Bus Interface Circuit</a:t>
            </a: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) e os módulos periféricos analógicos (ABM, 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Analog Boundary Modules</a:t>
            </a: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O 1149.4 na prática: Teste de ligações e teste paramétric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420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A norma IEEE 1149.4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58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 1149.4 constitui uma extensão da norma IEEE 1149.1 e define as estruturas adicionais a serem adicionadas a um componente 1149.1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m TAP analógico (ATAP) com dois pinos (AT1, AT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m barramento de teste analógico interno constituído por (pelo menos) duas linhas (AB1, AB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m circuito de interface ao barramento de teste (TBIC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ódulos periféricos analógicos (ABM) em cada pino analógico e opcionalmente em outros pinos funciona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420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A infra-estrutura de teste P1149.4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ada pino de E/S analógico tem um ABM associado que proporciona operações de controlabilidade e observabilidade também no domínio mist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s sinais de teste analógicos podem ser encaminhados de / para os pinos funcionais analógicos através do TBIC e ATAP, que ligam o barramento de teste interno ao exterior (barramento na CCI e equipamento de teste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420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Estrutura de um componente compatível com a norma 1149.4 (1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5638680"/>
            <a:ext cx="850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(as células digitais 1149.1 são agora designadas por DB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fig6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8420400" cy="34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420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Estrutura de um componente compatível com a norma 1149.4 (2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 operação da infra-estrutura 1149.4 pode ser exemplificada como se segue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ma entrada analógica é aplicada externamente em AT1 e a saída analógica é observada em AT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T1 e AT2 podem ser ligados ao barramento interno constituído pelas linhas AB1 e AB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 AB1 o sinal pode ser encaminhado para o circuito interno ou para um pino funcional de saíd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s respostas são encaminhadas para AB2 a partir do circuito interno ou de um pino funcional de entrad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420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Estrutura de registos de teste no 1149.4 (1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0" name="fig8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8420040" cy="41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420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Estrutura de registos de teste no 1149.4 (2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502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 estrutura de registos de teste no 1149.4 é inteiramente digital e essencialmente idêntica à que é definida para o 1149.1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 registo BS compreende a estrutura de controlo do TBIC e dos ABM (para além da estrutura de controlo, quer o TBIC quer os ABM possuem também uma estrutura de comutação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s registos de controlo do TBIC e dos ABM definem os modos de operação destes bloc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2T21:27:04Z</dcterms:created>
  <dc:creator>José Manuel Martins Ferreira</dc:creator>
  <dc:description/>
  <dc:language>en-US</dc:language>
  <cp:lastModifiedBy>J. M. Martins Ferreira</cp:lastModifiedBy>
  <cp:lastPrinted>1998-09-14T18:41:17Z</cp:lastPrinted>
  <dcterms:modified xsi:type="dcterms:W3CDTF">2000-01-04T15:23:19Z</dcterms:modified>
  <cp:revision>332</cp:revision>
  <dc:subject/>
  <dc:title>No Slide Title</dc:title>
</cp:coreProperties>
</file>