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Modelo de um controlador B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EDD90AC6-DD4A-4318-8269-DCE0C214F21F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120"/>
            <a:ext cx="746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Modelo de um controlador BST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50532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struções para sincronismo com recursos de teste extern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1982880"/>
          <a:ext cx="7904160" cy="214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2880"/>
                    <a:ext cx="79041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3040" y="151920"/>
            <a:ext cx="8781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struções para controlo de recursos internos e fluxo do progra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981080"/>
          <a:ext cx="7924680" cy="31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924680" cy="31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o programa de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baixo nível de abstracção do conjunto de instruções proposto torna o desenvolvimento “manual” do programa de teste uma tarefa tediosa e propensa à ocorrência de err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 portanto muito desejável dispor de uma ferramenta computacional para este efei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nosso objectivo pedagógico não seria no entanto atingido se fossem omitidos os detalhes de controlo da infra-estrutura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icar quais as principais fontes de informação necessárias para permitir a geração de programas de teste para CCI com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resentar uma linguagem de especificação formal (mas simples) que permita ao aluno escrever programas de teste para casos rea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perações básica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olar a infra-estrutura B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ncronizar a infra-estrutura BST com recursos de teste extern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olar os recursos de teste internos e o fluxo do programa de tes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junto de instruções para cada um dos tipos básicos de operaçõ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eração do programa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rações básicas para controlar a infra-estrutura BST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licar um impulso descendente em /TR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licar um impulso em TCK enquanto TMS é mantida num valor lógico pré-definido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locar uma sequência de bits para a cadeia de varrimento seleccionada, sem comparar os bits deslocados para o exterior com valores esperados (a linha TMS deve ser mantida em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xcepto no último impulso em TCK, quando deverá estar a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rações básicas para controlar a infra-estrutura BST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slocar uma sequência de bits para a cadeia de varrimento seleccionada, enquanto os bits (ou parte deles) deslocados para o exterior são comparados com valores esperados (a linha TMS deve ser mantida em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xcepto no último impulso em TCK, quando deverá estar a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licar N impulsos em TCK, com TMS em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leccionar a cadeia BST em que deverão ter lugar as próximas operaçõ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rações básicas para efeitos de sincronism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locar a saída de sincronismo num valor lógico pré-definido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sperar até que a entrada de sincronismo assuma um valor lógico pré-definido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907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rações básicas para controlar os recursos internos e fluxo do progra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arregar um contador interno com o número de impulsos pretendido em TC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Seleccionar a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flag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de erro a activar se um valor esperado não for encontr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Efectuar um salto condicional no programa de teste, de acordo com o estado da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flag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de erro selecciona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oncluir o programa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struções para controlar a infra-estrutura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90720" y="1981080"/>
          <a:ext cx="7924680" cy="450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92468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9010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sequência de bits na instrução NSHCP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NSHFCP $novos,$esperados,$máscara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SHFCP $55,$30,$F0,$00,$50,$F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loca um novo vector que coloca as últimas 8 células (8..15) e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0101010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 todas as primeiras 8 células (0..7) e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rificar que as células (0..3) captura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010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 as células (8..11) captura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95680" y="4343400"/>
          <a:ext cx="438156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343400"/>
                    <a:ext cx="438156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cp:lastPrinted>1999-08-13T09:38:32Z</cp:lastPrinted>
  <dcterms:modified xsi:type="dcterms:W3CDTF">2000-01-04T15:22:04Z</dcterms:modified>
  <cp:revision>115</cp:revision>
  <dc:subject/>
  <dc:title>Arquitectura mínima</dc:title>
</cp:coreProperties>
</file>