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</a:t>
            </a:r>
            <a:r>
              <a:rPr b="1" lang="en-GB" sz="1000" spc="-1" strike="noStrike">
                <a:solidFill>
                  <a:srgbClr val="000000"/>
                </a:solidFill>
                <a:latin typeface="Century Schoolbook"/>
              </a:rPr>
              <a:t>A Windows BS test controller 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</a:t>
            </a:r>
            <a:r>
              <a:rPr b="0" lang="en-GB" sz="1000" spc="-1" strike="noStrike">
                <a:solidFill>
                  <a:srgbClr val="000000"/>
                </a:solidFill>
                <a:latin typeface="Century Schoolbook"/>
              </a:rPr>
              <a:t>University of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E65A33D1-9F0A-49D3-8544-60C2E030EA1A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680" y="17524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entury Schoolbook"/>
              </a:rPr>
              <a:t>A Windows BS test controller application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209680" y="3505320"/>
            <a:ext cx="6934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4050-123 Porto - PORTUG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22-2041748 / Fax: 351-22-200361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(jmf@fe.up.pt / http://www.fe.up.pt/~jmf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1793520" cy="1967040"/>
            <a:chOff x="380880" y="685800"/>
            <a:chExt cx="1793520" cy="1967040"/>
          </a:xfrm>
        </p:grpSpPr>
        <p:graphicFrame>
          <p:nvGraphicFramePr>
            <p:cNvPr id="43" name=""/>
            <p:cNvGraphicFramePr/>
            <p:nvPr/>
          </p:nvGraphicFramePr>
          <p:xfrm>
            <a:off x="380880" y="685800"/>
            <a:ext cx="960480" cy="135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85800"/>
                      <a:ext cx="960480" cy="1350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45" name="INSIGHT_II" descr=""/>
            <p:cNvPicPr/>
            <p:nvPr/>
          </p:nvPicPr>
          <p:blipFill>
            <a:blip r:embed="rId3"/>
            <a:stretch/>
          </p:blipFill>
          <p:spPr>
            <a:xfrm>
              <a:off x="1108080" y="1499760"/>
              <a:ext cx="106632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S at PCB level: Exampl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Write a test program to detect a short-circuit fault due to X16 on the demonstration board (TDO-TDI of IC4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Write a test program to detect a short-circuit fault due to X9 on the demonstration board (between full-BS interconnects that have cells in two BS chain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enable the students to write and execute test programs for the demonstration boar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provide a tool for test program valida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enable hands-on sess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est set up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Windows BS test controller applica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est program control b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tatus inform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op-down men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Editing ar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est set up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 PC running Windows 95, a 5 V power supply, the demonstration board and the flat-cable connec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" name="figura6.1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est controller applic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76720" y="1828800"/>
          <a:ext cx="461952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828800"/>
                    <a:ext cx="46195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est program control ba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19320" y="2133720"/>
          <a:ext cx="7848360" cy="300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784836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Status inform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066680" y="2133720"/>
          <a:ext cx="7391520" cy="40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391520" cy="40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pop-down menu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ile: New, Open, Save, Save as and Exi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Edit: Undo, Cut, Copy, Paste, Delete and Clean all breakpoi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Help: Contents, Index and find, About and TAP controll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77120" y="1828800"/>
            <a:ext cx="3114720" cy="1343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3124080" cy="1590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77120" y="4952880"/>
            <a:ext cx="31240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editing are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editing area is used to write or modify test progra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syntax of each line is as follow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Label: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struction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operand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 comme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0"/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(a label must always be followed by a colon and any text after a semi-colon is a commen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J. M. Martins Ferreira</cp:lastModifiedBy>
  <cp:lastPrinted>1998-05-28T09:10:12Z</cp:lastPrinted>
  <dcterms:modified xsi:type="dcterms:W3CDTF">2000-01-04T15:29:41Z</dcterms:modified>
  <cp:revision>91</cp:revision>
  <dc:subject/>
  <dc:title>Arquitectura mínima</dc:title>
</cp:coreProperties>
</file>