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A BS test controller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B118AB7D-9E07-4F77-B92B-53A671DF6D08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5248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A BS test controller model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680" y="350532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structions for synchronisation with external test resourc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90720" y="1981080"/>
          <a:ext cx="8153280" cy="19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8153280" cy="19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structions to control internal test resources and test flow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90720" y="1981080"/>
          <a:ext cx="8076960" cy="29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807696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program gene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low abstraction level of the proposed instruction set makes “manual” test program development tedious and error-pr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t is highly desirable to have an automatic test program generation too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owever, our pedagogical objective would not be achieved if the small details of controlling the BS chain at bit-level were omitt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identify what are the main information sources required to enable test program generation for BS boar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sent a formal (yet simple) specification language that enables the student to write test programs for real case stud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asic test oper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o control the BS infrastruc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o synchronise the BS infrastructure with external test resour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o control internal test resources and test program flo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instruction set for each type of basic test oper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program gener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sic test operations to control the BS infrastructure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pply an active-low pulse in /TR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pply a TCK cycle while TMS is fixed at a pre-defined (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 logic valu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ift a bit stream into the selected scan chain, without comparing the bits shifted out with any expected responses (the TMS line must be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except in the last TCK cycle, when it must be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sic test operations to control the BS infrastructure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ift a bit stream into the selected scan chain, while the bit stream shifted out is checked against expected values in pre-defined bit locations (the TMS line must be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except in the last TCK cycle, when it must be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pply N TCK cycles while TMS is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elect the BS chain in which the following test operations are to take place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sic test operations for synchronisation purpos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et the synchronisation output to a pre-defined logic value (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Wait until the synchronisation input is set to a pre-defined logic value (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sic test operations to control internal resources and test flow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Load an internal counter with the required number of TCK cy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elect the error flag to be set if an expected value is not foun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Perform a conditional jump in the test program flow according to the value of the selected error fla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nclude the test progra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structions to control the BS infrastru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90720" y="1981080"/>
          <a:ext cx="8076960" cy="40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807696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3040" y="151920"/>
            <a:ext cx="8858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it stream in the NSHCP instruction 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(NSHFCP $new,$expected,$mask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SHFCP $55,$30,$F0,$00,$50,$F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hifts in a test vector that forces the last 8 cells (8..15) to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01010101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and all the first 8 cells (0..7) to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hecks that cells (0..3) capture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0101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and cells (8..11) capture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62520" y="3886200"/>
          <a:ext cx="4381560" cy="18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86200"/>
                    <a:ext cx="438156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dcterms:modified xsi:type="dcterms:W3CDTF">2000-01-04T15:52:48Z</dcterms:modified>
  <cp:revision>96</cp:revision>
  <dc:subject/>
  <dc:title>Arquitectura mínima</dc:title>
</cp:coreProperties>
</file>