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3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900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5588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900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5588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2388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248520"/>
            <a:ext cx="8381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Century Schoolbook"/>
              </a:rPr>
              <a:t>LEONARDO INSIGHT II - </a:t>
            </a:r>
            <a:r>
              <a:rPr b="1" lang="en-GB" sz="1000" spc="-1" strike="noStrike">
                <a:solidFill>
                  <a:srgbClr val="000000"/>
                </a:solidFill>
                <a:latin typeface="Century Schoolbook"/>
              </a:rPr>
              <a:t>The Boundary Scan Test (BST)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© J. M. Martins Ferreira - </a:t>
            </a:r>
            <a:r>
              <a:rPr b="0" lang="en-GB" sz="1000" spc="-1" strike="noStrike">
                <a:solidFill>
                  <a:srgbClr val="000000"/>
                </a:solidFill>
                <a:latin typeface="Century Schoolbook"/>
              </a:rPr>
              <a:t>University of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 Porto (FEUP / DEEC)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fld id="{56E6B8ED-7C00-42AB-92E7-D9655D707292}" type="slidenum"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209680" y="1752480"/>
            <a:ext cx="7315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entury Schoolbook"/>
              </a:rPr>
              <a:t>The Boundary Scan Test (BST) technolo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09680" y="3429000"/>
            <a:ext cx="6934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J. M. Martins Ferre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FEUP / DEEC - Rua dos Bra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4050-123 Porto - PORTU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el. 351-22-2041748 / Fax: 351-22-20036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(jmf@fe.up.pt / http://www.fe.up.pt/~jm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1793520" cy="1967040"/>
            <a:chOff x="380880" y="685800"/>
            <a:chExt cx="1793520" cy="1967040"/>
          </a:xfrm>
        </p:grpSpPr>
        <p:graphicFrame>
          <p:nvGraphicFramePr>
            <p:cNvPr id="43" name=""/>
            <p:cNvGraphicFramePr/>
            <p:nvPr/>
          </p:nvGraphicFramePr>
          <p:xfrm>
            <a:off x="380880" y="685800"/>
            <a:ext cx="960480" cy="135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685800"/>
                      <a:ext cx="960480" cy="13507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45" name="INSIGHT_II" descr=""/>
            <p:cNvPicPr/>
            <p:nvPr/>
          </p:nvPicPr>
          <p:blipFill>
            <a:blip r:embed="rId3"/>
            <a:stretch/>
          </p:blipFill>
          <p:spPr>
            <a:xfrm>
              <a:off x="1108080" y="1499760"/>
              <a:ext cx="1066320" cy="115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basic BS cell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ree main operating mode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ontrollabil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bservabil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819520" y="3276720"/>
          <a:ext cx="5135400" cy="243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276720"/>
                    <a:ext cx="513540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715000" y="1600200"/>
          <a:ext cx="3981600" cy="459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600200"/>
                    <a:ext cx="39816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S: The basic test protocol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hift in a new test vector (left mux in Shift mode, right mux in Normal or Test mode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086600" y="457200"/>
          <a:ext cx="2620800" cy="12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457200"/>
                    <a:ext cx="262080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762120" y="2743200"/>
            <a:ext cx="8420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pply the test vector (left mux in Shift or Capture modes, right mux in Test m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3657600"/>
            <a:ext cx="84200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Capture the responses (left mux in Capture m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4572000"/>
            <a:ext cx="8420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hift out the responses (left mux in Shift m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s BS test slow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canning in and out each test vector / responses may be unacceptable for IC test, which may require hundreds of thousands of vecto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However, and considering the main application domain of BS (structural testing of PCBs), we shall see that the number of test vectors required is normally smal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S: The test data registers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BS register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comprises the set of BS cells present in the circuit and is mandatory in any BS IC (at least two instructions selecting this register have to be supported: EXTEST and SAMPLE / PRELOAD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bypass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register is mandatory and its function is to shorten the total length of the serial PCB-level chain (it has a single bit and is selected by the BYPASS instruction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S: The test data registers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identification register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is optional and its function is to provide a 32-bit sequence enabling the test engineer to perform an identity check on each device supporting the IDCODE instruc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user test data registers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are also optional and will normally interface additional testability infrastructures introduced by the designe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instruction register: Mandatory instructions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EXTEST instruction selects the BS register and imposes the (external) test mode in each BS cell, decoupling the IC core logic from the pins (the EXTEST instruction has a pre-defined code of all-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SAMPLE / PRELOAD instruction also selects the BS register, but the BS cells are now in transparent mode (this instruction does not have a pre-defined cod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instruction register: Mandatory instructions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Both EXTEST and SAMPLE / PRELOAD are used to test the board interconnects, but S/P is used to shift in the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first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test vector (why?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BYPASS instruction selects the bypass register and enables a 1-bit data path through those ICs which do not play a role in the current test operation (this instruction has an all-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code and is automatically loaded into the instruction register on rese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TAP controller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TAP controller is a small finite state machine that generates most of the control signals required by the BS architectu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TAP controller commands the register placed between TDI and TDO to..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apture the logic value present at the parallel input of its ce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hift data serially through the register ce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update the cell parallel outputs with the values that were shifted 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AP controller state transition diagram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666880" y="1600200"/>
          <a:ext cx="4878360" cy="45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00200"/>
                    <a:ext cx="487836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TAP controller states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Capture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Shift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Update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(-DR or -IR) are the states where the selected register performs the three main test opera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In the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Test Logic Reset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the BS register is in transparent mode and the functional logic operating normall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Run Test / Idle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is used to perform certain test operations (such as BIST — Built-In Self-Test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present in detail the BS test technology, emphasising its implementation and application doma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enable the student to acquire sufficient knowledge to design and implement a simple BS architectu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TAP controller states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Select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Exit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Exit2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(-DR or -IR) are temporary sta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Exit1 and Exit2, combined with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Pause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(-DR or -IR) allow shifting of test data to be temporarily halt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Select states allow selection of which type of register (-DR or -IR) to place between TDI and TD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AP controller timing detail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tate transitions occur with the rising edge in the TCK sign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ctions in a TAP controller state (such as capture, shift or update operations) occur with the falling edge of TCK in the sta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SDL: Boundary Scan Description Languag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BSDL is a subset of VHDL that describes the BS infrastructure and its operation (approved as IEEE std. 1149.1b in 1994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Mandatory features are not described in BSDL (e.g. a BSDL description does not describe the BYPASS register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CAD tools making use of BSDL: testability analysis, automatic test pattern generation, fault diagnosis, etc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HSDL: Hierarchical Scan DL and SVF: Serial Vector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HSDL complements BSDL, describing how IEEE 1149.1 is implemented at board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VF was jointly developed by Teradyne and Texas Instruments to enable a vendor-independent representation of IEEE 1149.1 test patter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n SVF file contains ASCII statements consisting of commands and parameters of 3 types: state, offset and parallel command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629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Scan Educator application (TI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848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Case study: a simple BST infrastructure in a MACH210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objective is to design a very simple BST infrastructure around a core logic that implements the identity func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267080" y="1649520"/>
          <a:ext cx="52866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49520"/>
                    <a:ext cx="5286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Required BST instruction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Only the three 1149.1 mandatory instructions are required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352680"/>
          <a:ext cx="8229600" cy="192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52680"/>
                    <a:ext cx="822960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AP controller output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Control signals generated by the TAP controller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BSUPD: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Boundary scan up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NTRST: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Internal res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RSHF: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Instruction register shift, 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RCAP: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Instruction register capture, 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RUPD: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Instruction register up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DRSHF: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Data register shift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, DRCAP: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Data register cap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MUXCTR: to select between data / instruc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DOACT: TDO tristate contr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162920" y="2133720"/>
          <a:ext cx="2209680" cy="12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2133720"/>
                    <a:ext cx="220968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ST register cell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ree-running” clock configuration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124080" y="2514600"/>
          <a:ext cx="5183280" cy="34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514600"/>
                    <a:ext cx="5183280" cy="34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struction register cell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8120" y="2209680"/>
          <a:ext cx="476244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09680"/>
                    <a:ext cx="476244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development of BS and its application doma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BS architecture and test access port (TAP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basic BS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test data regis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instruction regis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TAP controller state mach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P register cell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(the latch stage is not required for this cell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352680" y="2895480"/>
          <a:ext cx="361980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895480"/>
                    <a:ext cx="361980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Design verific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286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What is the TAP state transition sequence shown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124080" y="1676520"/>
          <a:ext cx="6400800" cy="451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640080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Why Boundary Scan Test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two main reasons that led in the mid-80s to the development of BST wer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increasing complexity of integrated circuits (ICs) made it exceedingly difficult to develop test programs for the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functional test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of complex printed circuit boards (PCB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shrinking effect of using small outline surface mount devices and advanced mounting technologies almost disabled physical access to internal PCB nodes and made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in-circuit test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exceedingly difficu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application domain of B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BST addresses the structural test of digital printed circuit board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Keywords: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structural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digital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PCB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narrow scope of BST contributed to its acceptance and to the quick development of products, but the potential of a standard embedded test infrastructure goes much beyond the initial application domai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basic concept of B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BS makes it possible to decouple the internal IC logic from the pins and allows “direct” access to any PCB node without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backdriving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effec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3581280"/>
          <a:ext cx="5192640" cy="19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581280"/>
                    <a:ext cx="519264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Test Access Port (TAP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TDI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(Test Data Input): The serial data input to the BS register (a floating TDI is read as a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TDO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(Test Data Output): The serial data output of the BS register (in high-impedance except when a scan operation is in progres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TCK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(Test Clock): Clock for the test logic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TMS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(Test Mode Select): A control input that defines the operating mode required for the test logic (a floating TMS is read as a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BS architectur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4114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Besides the BS register, the test logic includes additional data registers, an instruction register and a TAP controller finite state machin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952880" y="1752480"/>
          <a:ext cx="39816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752480"/>
                    <a:ext cx="39816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Access protocol to the BS architectur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TAP controller places the instruction register in the TDI-TDO path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proper bit sequence (instruction) is shifted in, setting the contents of the instruction register to select the required data regist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TAP controller places the selected data register in the TDI-TDO path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est vectors may now be shifted in and out through the selected test data regist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6:44:00Z</dcterms:created>
  <dc:creator>José Manuel Martins Ferreira</dc:creator>
  <dc:description/>
  <dc:language>en-US</dc:language>
  <cp:lastModifiedBy>J. M. Martins Ferreira</cp:lastModifiedBy>
  <dcterms:modified xsi:type="dcterms:W3CDTF">2000-01-04T15:30:46Z</dcterms:modified>
  <cp:revision>143</cp:revision>
  <dc:subject/>
  <dc:title>Arquitectura mínima</dc:title>
</cp:coreProperties>
</file>