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</a:t>
            </a:r>
            <a:r>
              <a:rPr b="1" lang="en-GB" sz="1000" spc="-1" strike="noStrike">
                <a:solidFill>
                  <a:srgbClr val="000000"/>
                </a:solidFill>
                <a:latin typeface="Century Schoolbook"/>
              </a:rPr>
              <a:t>Basic Test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</a:t>
            </a:r>
            <a:r>
              <a:rPr b="0" lang="en-GB" sz="1000" spc="-1" strike="noStrike">
                <a:solidFill>
                  <a:srgbClr val="0000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E6139E8D-D657-43BB-9D0C-96A861DC9DD2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680" y="1752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entury Schoolbook"/>
              </a:rPr>
              <a:t>Basic test concepts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09680" y="2971800"/>
            <a:ext cx="6934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servability of a nod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90920" y="1905120"/>
          <a:ext cx="4725720" cy="171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47257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38080" y="4114800"/>
          <a:ext cx="8305920" cy="196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83059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ability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ability is a combined measure of controllability and observabi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igh testability facilitates test vector generation and leads to better test effectivenes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o, why aren’t all circuits highly testable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D-not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Used in the test vector generation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D-algorithm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introduced by Paul Roth in the mid-60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 is a composite logic value that results from driving a s@0 node to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and /D its dual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4038480"/>
          <a:ext cx="8915400" cy="20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038480"/>
                    <a:ext cx="8915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D-algorithm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rive the node to a logic value that is the opposite of the fault (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if s@1 and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if s@0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Propagate the error signal (D or /D) to a primary outpu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Justify (backwards) the values that enable the propagation path, until a necessary combination at the primary inputs (a test vector) is foun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A test generation exampl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828800"/>
          <a:ext cx="7696440" cy="43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696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case of undetectable faul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1820880"/>
          <a:ext cx="8001000" cy="44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0880"/>
                    <a:ext cx="80010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acktracking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914400" y="1828800"/>
          <a:ext cx="822960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822960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generation for sequential circui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irect application of the D-algorithm leads to the combinational block inputs and outputs, not necessarily to primary inputs or outpu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0000" y="1676520"/>
          <a:ext cx="449748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000" y="1676520"/>
                    <a:ext cx="4497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generation - step 1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752480"/>
          <a:ext cx="7816680" cy="44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81668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generation - step 2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752480"/>
          <a:ext cx="8521560" cy="50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521560" cy="50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mphasise the importance of testing in the overall product development cyc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introduce the basic concepts in testing and design for testabi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prepare the student to understand in detail the standard boundary scan test archite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generation - step 3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1762200"/>
          <a:ext cx="8485200" cy="509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62200"/>
                    <a:ext cx="8485200" cy="50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complexity of the general case is however much higher, because.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D-algorithm does not necessarily lead to circuit primary inputs and outpu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Knowledge of the circuit state transition diagram is requir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fault may indeed affect the state transition diagram, in which case the determination of the required sequence at the circuit primary inputs becomes even more difficul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ake the example of Y s@0.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88920" y="1905120"/>
          <a:ext cx="7608960" cy="39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905120"/>
                    <a:ext cx="760896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Ad hoc testability improvemen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esign rules or amendments to avoid or minimise test vector generation proble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Major drawback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ot always reusab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estability depends largely on the type of circu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Some ad hoc testability rul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plit counters to avoid high numbers of clock cycles until the required output combination is achiev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nclude reset and preset lines (synchronous or asynchronous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Partition large circuits and add extra inputs and outputs for direct controllability and observability of internal nod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Structured Design for Testability (DfT) methodologi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objective of structured DfT methodologies is to enable a simple way to drive the circuit to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any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given state in a fixed (and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hort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 number of clock cy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oes structured DfT have drawback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esign rules (or rather a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design style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) have to accep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dditional silicon area, more pins and higher propagation delays… but is this an additional cos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scan design principl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752480"/>
          <a:ext cx="4572000" cy="45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52480"/>
                    <a:ext cx="457200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scan design principle consists of inserting a 2:1 multiplexer between the input of every D flip-flop and its driving logi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Advantages of scan design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Problem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: Part of the combinational circuitry inputs are not directly controllable, since they come from the D-FF outputs (these nodes define the circuit present stat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olution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: The scan flip-flops shown in figure 1.9 enable direct controllability of the D-FF outputs through a simple procedure with a fixed number of clock cy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controllability through scan design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1120" y="1755720"/>
          <a:ext cx="8082000" cy="46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08200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controllability through scan design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1120" y="1755720"/>
          <a:ext cx="8157960" cy="47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15796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ault modeling and ss@ faul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ontrollability, observability and testabi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 vector generation for combinational circui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ability and test generation in sequential circui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ability improvement via ad hoc solu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tructured approaches to design for testabi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controllability through scan design (3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1120" y="1755720"/>
          <a:ext cx="8157960" cy="46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15796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controllability through scan design (4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1120" y="1755720"/>
          <a:ext cx="8082000" cy="47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08200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controllability through scan design (5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1120" y="1755720"/>
          <a:ext cx="8157960" cy="468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15796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Advantages of scan design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Problem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: Part of the combinational circuitry outputs are not directly observable, since they go to the D-FF inputs (these nodes define the circuit next stat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olution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: The scan flip-flops shown in figure 1.9 enable direct observability of the D-FF inputs through a simple procedure with a fixed number of clock cy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observability through scan design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1120" y="1755720"/>
          <a:ext cx="8234280" cy="46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2342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observability through scan design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1120" y="1755720"/>
          <a:ext cx="8157960" cy="47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15796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observability through scan design (3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1120" y="1755720"/>
          <a:ext cx="8234280" cy="471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2342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observability through scan design (4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1120" y="1755720"/>
          <a:ext cx="823428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23428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observability through scan design (5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1120" y="1755720"/>
          <a:ext cx="8157960" cy="46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15796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DfT: </a:t>
            </a:r>
            <a:r>
              <a:rPr b="0" i="1" lang="en-GB" sz="4000" spc="-1" strike="noStrike">
                <a:solidFill>
                  <a:srgbClr val="000000"/>
                </a:solidFill>
                <a:latin typeface="Century Schoolbook"/>
              </a:rPr>
              <a:t>Eventually</a:t>
            </a: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 an overhead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2:1 multiplexers increase the propagation delay and required additional silicon area and more pins, but this does not necessarily mean higher co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enefits due to easier test vector generation and application are difficult to quantif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esign freedom was traded for higher testability, but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partial scan design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might be a preferred intermediate solu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importance of testing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No testing, no manufactur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ost of testing is very high, but the cost of defective testing strategies is even high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vailable test standard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 brief historical perspecti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Why fault models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Possible physical defects are too many and defect spectrum too w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Effective test strategies require that the complexity of considering possible malfunction causes is reduced to an acceptabl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ault models are an abstract representation of defective circuit conditions (a fault is at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logic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level, a defect is at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physical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level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Attributes of a good fault mode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implicity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to allow efficient test vector generation procedu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Defect coverage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to guarantee that the percentage of defective components escaping detection is acceptably lo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single stuck-at fault mode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 structural fault model assuming th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nly one node at a time is faul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nly two types of faults: s@0 and s@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Experience has shown that the ss@ fault model has excellent characteristics concerning the attributes previously referr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Controllability of a nod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90920" y="1981080"/>
          <a:ext cx="4725720" cy="171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81080"/>
                    <a:ext cx="4725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85800" y="4218120"/>
          <a:ext cx="8534520" cy="1987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18120"/>
                    <a:ext cx="85345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Problems due to low controllability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Low controllability leads to difficult test vector generation, sinc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ur first step to detect a given s@ fault in a node consists of driving it to a logic value that is the opposite of the fau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 an IC, the value at any node can only be controlled from the input pins (the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primary inputs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of the circui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Low observability, as we shall see, has a similar effec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. M. Martins Ferreira</cp:lastModifiedBy>
  <dcterms:modified xsi:type="dcterms:W3CDTF">2000-01-04T15:30:02Z</dcterms:modified>
  <cp:revision>76</cp:revision>
  <dc:subject/>
  <dc:title>Arquitectura mínima</dc:title>
</cp:coreProperties>
</file>