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0900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5588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176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0900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5588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2680" y="151920"/>
            <a:ext cx="84200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23880"/>
            <a:ext cx="990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6248520"/>
            <a:ext cx="83818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Century Schoolbook"/>
              </a:rPr>
              <a:t>LEONARDO INSIGHT II - </a:t>
            </a:r>
            <a:r>
              <a:rPr b="1" lang="en-GB" sz="1000" spc="-1" strike="noStrike">
                <a:solidFill>
                  <a:srgbClr val="000000"/>
                </a:solidFill>
                <a:latin typeface="Century Schoolbook"/>
              </a:rPr>
              <a:t>Test protocol for BS bo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© J. M. Martins Ferreira - </a:t>
            </a:r>
            <a:r>
              <a:rPr b="0" lang="en-GB" sz="1000" spc="-1" strike="noStrike">
                <a:solidFill>
                  <a:srgbClr val="000000"/>
                </a:solidFill>
                <a:latin typeface="Century Schoolbook"/>
              </a:rPr>
              <a:t>University of</a:t>
            </a: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 Porto (FEUP / DEEC)</a:t>
            </a: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fld id="{313080FD-A7CD-42ED-ADB2-30887DD381A3}" type="slidenum"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09680" y="1752120"/>
            <a:ext cx="7315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entury Schoolbook"/>
              </a:rPr>
              <a:t>Test protocol for BS boards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209680" y="3581280"/>
            <a:ext cx="6934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J. M. Martins Ferreir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FEUP / DEEC - Rua dos Braga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4050-123 Porto - PORTUG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Tel. 351-22-2041748 / Fax: 351-22-200361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(jmf@fe.up.pt / http://www.fe.up.pt/~jmf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1793520" cy="1967040"/>
            <a:chOff x="380880" y="685800"/>
            <a:chExt cx="1793520" cy="1967040"/>
          </a:xfrm>
        </p:grpSpPr>
        <p:graphicFrame>
          <p:nvGraphicFramePr>
            <p:cNvPr id="43" name=""/>
            <p:cNvGraphicFramePr/>
            <p:nvPr/>
          </p:nvGraphicFramePr>
          <p:xfrm>
            <a:off x="380880" y="685800"/>
            <a:ext cx="960480" cy="135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685800"/>
                      <a:ext cx="960480" cy="13507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45" name="INSIGHT_II" descr=""/>
            <p:cNvPicPr/>
            <p:nvPr/>
          </p:nvPicPr>
          <p:blipFill>
            <a:blip r:embed="rId3"/>
            <a:stretch/>
          </p:blipFill>
          <p:spPr>
            <a:xfrm>
              <a:off x="1108080" y="1499760"/>
              <a:ext cx="1066320" cy="115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Fault detection in non-BS clusters: Full in-circuit access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Highest requirements in external test resourc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Maximum spe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486400" y="2286000"/>
          <a:ext cx="346716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86000"/>
                    <a:ext cx="346716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Fault detection in non-BS clusters:  Peripheral access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Intermediate solution in terms of required external test resources and spe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486400" y="2286000"/>
          <a:ext cx="321804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86000"/>
                    <a:ext cx="321804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Fault detection in non-BS clusters: Primary I/O access only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828800"/>
            <a:ext cx="4343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lowest (when a set of deterministic test vectors is to be u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Cheapest (no external test resources required, besides the primary I/O test channe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486400" y="2286000"/>
          <a:ext cx="321804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86000"/>
                    <a:ext cx="321804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est vector gener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est generation is done by an automatic test pattern generation tool, according to a specific fault model and to the test resources assumed to be availab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Notice however that pseudo-random pattern generation (PRPG) and signature analysis (SA) may be used in certain cases and provide an effective and very fast test alternative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Non-BS clusters testing in boards with multiple BS chain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first two test set up alternatives (full in-circuit access and peripheral access) pose no special requirements, since the BS chains are not used or play a minor ro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When external test resources are available only for the cluster primary I/O pins, the test protocol is the same that was described for short-circuit fault detection in full-BS interconnect test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Components testing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Due to the main application domain of BS, limited facilities are to be expected for components test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Complex VLSI circuits will normally include BIST structures, accessible through the RUNBIST instruc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remaining cases are limited to a simple “dead or alive” test with the EXTEST or INTEST instructio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enable the student to understand the main issues that have to be considered when testing a board with B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present a test protocol that covers the main test actions requir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emphasise insufficiencies in this test protocol and identify the steps requiring further atten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Fault detection in the BS infrastructu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Open and short-circuit fault detection in full-BS interconnec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Full-BS interconnects testing in boards with multiple BS scan chai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Fault detection in non-BS cluste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esting non-BS clusters in boards with multiple BS scan chai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Faulty components detec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test protocol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Integrity check of the BS infrastructu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Full-BS interconnects te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Open fault dete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hort-circuit fault dete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Non-BS clusters test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Components te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Components with BI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Dead or alive” test in non-BIST compon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Integrity check of the BS infrastructur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Detection of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Faulty TAP pi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Faulty / misplaced compon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equence of operation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Reset (TRST or 5 x TMS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R capture and sc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D capture and sc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648320" y="4495680"/>
          <a:ext cx="4381560" cy="10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495680"/>
                    <a:ext cx="43815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Open fault detection in full-BS interconnect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test vectors drive both a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and a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through each driving pin in each interconnect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Insert the SAMPLE / PRELOAD instruction and shift in the first test vecto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Insert EXTEST and apply the remaining test vectors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505320" y="4343400"/>
          <a:ext cx="5145120" cy="173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343400"/>
                    <a:ext cx="514512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Short-circuit fault detection in full-BS interconnect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est principle: Drive the interconnects under test to opposite logic valu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hort-circuits are potentially destructive and the number of possible faults grows exponentially with the circuit dimens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Fault detection is much simpler that fault diagnosis, since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any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multiple interconnect shorts will be detected if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all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two-interconnect shorts are detect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binary partition algorithm for short-circuit test vector gener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binary partition algorithm guarantees complete fault detection with a minimum number of test vectors (and minimum diagnostic resolution…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133720" y="3809880"/>
          <a:ext cx="5316480" cy="20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809880"/>
                    <a:ext cx="5316480" cy="20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Full-BS interconnect testing in boards with multiple BS chain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Easier in the case of open fault detec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hort-circuit fault detection requires a co-ordinated protocol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hift the test vector in through the BS register cells and proceed to the update-DR and select-DR TAP controller states after the last bit is shifted 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Repeat this operation with all remaining BS chai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Capture the test vector responses present in the first BS chain (move on to the Capture-DR stat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Repeat this operation with all remaining BS chai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3T16:44:00Z</dcterms:created>
  <dc:creator>José Manuel Martins Ferreira</dc:creator>
  <dc:description/>
  <dc:language>en-US</dc:language>
  <cp:lastModifiedBy>J. M. Martins Ferreira</cp:lastModifiedBy>
  <dcterms:modified xsi:type="dcterms:W3CDTF">2000-01-04T15:29:53Z</dcterms:modified>
  <cp:revision>104</cp:revision>
  <dc:subject/>
  <dc:title>Arquitectura mínima</dc:title>
</cp:coreProperties>
</file>