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900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588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900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588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8381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</a:t>
            </a:r>
            <a:r>
              <a:rPr b="1" lang="en-GB" sz="1000" spc="-1" strike="noStrike">
                <a:solidFill>
                  <a:srgbClr val="000000"/>
                </a:solidFill>
                <a:latin typeface="Century Schoolbook"/>
              </a:rPr>
              <a:t>A case study of test program gen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</a:t>
            </a:r>
            <a:r>
              <a:rPr b="0" lang="en-GB" sz="1000" spc="-1" strike="noStrike">
                <a:solidFill>
                  <a:srgbClr val="000000"/>
                </a:solidFill>
                <a:latin typeface="Century Schoolbook"/>
              </a:rPr>
              <a:t>University of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FDB7EA8E-CBB6-4505-B65A-BBD82D956B37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09680" y="1752480"/>
            <a:ext cx="7391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entury Schoolbook"/>
              </a:rPr>
              <a:t>A case study of test program generation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209680" y="3581280"/>
            <a:ext cx="6934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4050-123 Porto - PORTUG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22-2041748 / Fax: 351-22-200361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(jmf@fe.up.pt / http://www.fe.up.pt/~jmf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1793520" cy="1967040"/>
            <a:chOff x="380880" y="685800"/>
            <a:chExt cx="1793520" cy="1967040"/>
          </a:xfrm>
        </p:grpSpPr>
        <p:graphicFrame>
          <p:nvGraphicFramePr>
            <p:cNvPr id="43" name=""/>
            <p:cNvGraphicFramePr/>
            <p:nvPr/>
          </p:nvGraphicFramePr>
          <p:xfrm>
            <a:off x="380880" y="685800"/>
            <a:ext cx="960480" cy="135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685800"/>
                      <a:ext cx="960480" cy="1350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45" name="INSIGHT_II" descr=""/>
            <p:cNvPicPr/>
            <p:nvPr/>
          </p:nvPicPr>
          <p:blipFill>
            <a:blip r:embed="rId3"/>
            <a:stretch/>
          </p:blipFill>
          <p:spPr>
            <a:xfrm>
              <a:off x="1108080" y="1499760"/>
              <a:ext cx="1066320" cy="115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formation required for testing the IC1+IC2 cluster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90720" y="3581280"/>
          <a:ext cx="8076960" cy="246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581280"/>
                    <a:ext cx="807696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HILO generated 5 test vectors to provide 100% fault coverage of stuck-at pins in both compone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IC6 non-BS cluste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666880" y="1752480"/>
          <a:ext cx="449604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752480"/>
                    <a:ext cx="449604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formation required for testing the IC6 cluster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90720" y="2133720"/>
          <a:ext cx="79246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7924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formation required for testing the IC6 cluster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HILO generated 5 test vectors to provide 100% fault coverage of stuck-at pins in IC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676520" y="2971800"/>
          <a:ext cx="6400800" cy="326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971800"/>
                    <a:ext cx="640080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formation required for testing the BS components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143000" y="1752480"/>
          <a:ext cx="7696080" cy="27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7696080" cy="27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066680" y="4495680"/>
          <a:ext cx="7925040" cy="1452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495680"/>
                    <a:ext cx="792504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test vector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 modified version of the self-diagnosis algorithm generated 6 test vectors for complete short-circuit fault detection in the 24 full-BS interconnect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838080" y="3733920"/>
          <a:ext cx="8686800" cy="204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33920"/>
                    <a:ext cx="868680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serialised test vector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14400" y="2057400"/>
          <a:ext cx="8609040" cy="346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860904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test program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3880" y="1752480"/>
          <a:ext cx="6705720" cy="48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670572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present practical BS test problems through a real case stud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analyse the implementation of the test protocol using the test instruction set proposed earli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enable the student to acquire the necessary experience to develop small test programs for specific test situa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enable hands-on sess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demonstration boar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information required for test program genera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est vecto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est progra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demonstration board (block diagram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362320" y="1752480"/>
          <a:ext cx="594360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52480"/>
                    <a:ext cx="594360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formation required for checking the BS infrastructur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38080" y="2133720"/>
          <a:ext cx="8305920" cy="292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830592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formation required for full-BS interconnects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Number and identification of the BS chai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Is the interconnect tied to GND or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entury Schoolbook"/>
              </a:rPr>
              <a:t>CC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or output pin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umber of output pins and location of the output cell, the control cell (if any) and the tristate control valu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or input pin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umber of input pins and location of the input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formation required for full-BS interconnects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or bidirectional pin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umber of bidirectional pins and location of the output cell, the input cell, the control cell and the tristate control valu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or primary input pin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umber of primary inputs, identification and tristate control valu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or primary output pin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umber and identification of primary outpu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IC1+IC2 non-BS cluste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752480"/>
          <a:ext cx="6858000" cy="41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6858000" cy="41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formation required for testing the IC1+IC2 cluster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90720" y="2133720"/>
          <a:ext cx="7924680" cy="31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792468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6:44:00Z</dcterms:created>
  <dc:creator>José Manuel Martins Ferreira</dc:creator>
  <dc:description/>
  <dc:language>en-US</dc:language>
  <cp:lastModifiedBy>J. M. Martins Ferreira</cp:lastModifiedBy>
  <dcterms:modified xsi:type="dcterms:W3CDTF">2000-01-04T15:29:48Z</dcterms:modified>
  <cp:revision>94</cp:revision>
  <dc:subject/>
  <dc:title>Arquitectura mínima</dc:title>
</cp:coreProperties>
</file>