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A BS test controller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27C34611-25E3-42BD-A3BB-B87EB8289E7E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A BS test controller model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476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for synchronisation with external test resourc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981080"/>
          <a:ext cx="8153280" cy="19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153280" cy="19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to control internal test resources and test flow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981080"/>
          <a:ext cx="8076960" cy="29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07696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program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low abstraction level of the proposed instruction set makes “manual” test program development tedious and error-pr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t is highly desirable to have an automatic test program generation too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owever, our pedagogical objective would not be achieved if the small details of controlling the BS chain at bit-level were omit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ffee break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583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identify what are the main information sources required to enable test program generation for BS bo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a formal (yet simple) specification language that enables the student to write test programs for real case stud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asic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control the BS infrastruc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synchronise the BS infrastructure with external test resour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o control internal test resources and test program fl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instruction set for each type of basic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program gener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the BS infrastructure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an active-low pulse in /TR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a TCK cycle while TMS is fixed at a pre-defined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 logic valu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a bit stream into the selected scan chain, without comparing the bits shifted out with any expected responses (the TMS line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xcept in the last TCK cycle, when it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the BS infrastructure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a bit stream into the selected scan chain, while the bit stream shifted out is checked against expected values in pre-defined bit locations (the TMS line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xcept in the last TCK cycle, when it must be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N TCK cycles while TMS is held at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lect the BS chain in which the following test operations are to take place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for synchronisation purpos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t the synchronisation output to a pre-defined logic value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ait until the synchronisation input is set to a pre-defined logic value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sic test operations to control internal resources and test flow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ad an internal counter with the required number of T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lect the error flag to be set if an expected value is not fou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erform a conditional jump in the test program flow according to the value of the selected error fla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nclude the test progra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structions to control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1981080"/>
          <a:ext cx="8076960" cy="40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07696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151920"/>
            <a:ext cx="8858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it stream in the NSHCP instruction 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(NSHFCP $new,$expected,$mask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SHFCP $55,$30,$F0,$00,$50,$F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s in a test vector that forces the last 8 cells (8..15) to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1010101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and all the first 8 cells (0..7) to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hecks that cells (0..3) capture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101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and cells (8..11) capture </a:t>
            </a:r>
            <a:r>
              <a:rPr b="1" lang="en-GB" sz="2400" spc="-1" strike="noStrike">
                <a:solidFill>
                  <a:srgbClr val="000000"/>
                </a:solidFill>
                <a:latin typeface="Century Schoolbook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62520" y="3886200"/>
          <a:ext cx="438156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86200"/>
                    <a:ext cx="438156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Astep</cp:lastModifiedBy>
  <dcterms:modified xsi:type="dcterms:W3CDTF">1998-09-20T21:51:56Z</dcterms:modified>
  <cp:revision>94</cp:revision>
  <dc:subject/>
  <dc:title>Arquitectura mínima</dc:title>
</cp:coreProperties>
</file>