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The Boundary Scan Test (BST)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E459B026-8639-4821-8745-AE61233E523E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LOGO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27160" cy="15843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905120" y="19051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The Boundary Scan Test (BST) techn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429000"/>
            <a:ext cx="6933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jmf@fe.up.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4099 Porto Codex - 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1-2041748 / Fax: 351-2-2003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asic BS cel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ree main operating mod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troll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bserv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19520" y="3276720"/>
          <a:ext cx="5135400" cy="24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5135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715000" y="1600200"/>
          <a:ext cx="3981600" cy="459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600200"/>
                    <a:ext cx="3981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: The basic test protoco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in a new test vector (left mux in Shift mode, right mux in Normal or Test mod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86600" y="457200"/>
          <a:ext cx="2620800" cy="12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57200"/>
                    <a:ext cx="26208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62120" y="2743200"/>
            <a:ext cx="8420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pply the test vector (left mux in Shift or Capture modes, right mux in Test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657600"/>
            <a:ext cx="8420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apture the responses (left mux in Capture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572000"/>
            <a:ext cx="8420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hift out the responses (left mux in Shift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Is BS test slow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canning in and out each test vector / responses may be unacceptable for IC test, which may require hundreds of thousands of vecto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owever, and considering the main application domain of BS (structural testing of PCBs), we shall see that the number of test vectors required is normally smal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: The test data register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BS register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comprises the set of BS cells present in the circuit and is mandatory in any BS IC (at least two instructions selecting this register have to be supported: EXTEST and SAMPLE / PRELOA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bypass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register is mandatory and its function is to shorten the total length of the serial PCB-level chain (it has a single bit and is selected by the BYPASS instruc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: The test data register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identification register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s optional and its function is to provide a 32-bit sequence enabling the test engineer to perform an identity check on each device supporting the IDCODE instru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user test data registers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re also optional and will normally interface additional testability infrastructures introduced by the design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nstruction register: Mandatory instruction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EXTEST instruction selects the BS register and imposes the (external) test mode in each BS cell, decoupling the IC core logic from the pins (the EXTEST instruction has a pre-defined code of all-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AMPLE / PRELOAD instruction also selects the BS register, but the BS cells are now in transparent mode (this instruction does not have a pre-defined cod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nstruction register: Mandatory instruction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oth EXTEST and SAMPLE / PRELOAD are used to test the board interconnects, but S/P is used to shift in 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firs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est vector 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BYPASS instruction selects the bypass register and enables a 1-bit data path through those ICs which do not play a role in the current test operation (this instruction has an all-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code and is automatically loaded into the instruction register on rese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AP controll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is a small finite state machine that generates most of the control signals required by the BS archite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commands the register placed between TDI and TDO to..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apture the logic value present at the parallel input of its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hift data serially through the register ce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pdate the cell parallel outputs with the values that were shifted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P controller state transition diagra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66880" y="1600200"/>
          <a:ext cx="4878360" cy="45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487836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AP controller state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Captur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hif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Updat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-DR or -IR) are the states where the selected register performs the three main test opera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 the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Logic Rese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the BS register is in transparent mode and the functional logic operating normal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Run Test / Idl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s used to perform certain test operations (such as BIST — Built-In Self-Tes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sent in detail the BS test technology, emphasising its implementation and application dom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nable the student to acquire sufficient knowledge to design and implement a simple BS archite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AP controller state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elec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Exit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Exit2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-DR or -IR) are temporary st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xit1 and Exit2, combined with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aus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-DR or -IR) allow shifting of test data to be temporarily halt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elect states allow selection of which type of register (-DR or -IR) to place between TDI and T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P controller timing detail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tate transitions occur with the rising edge in the TCK sign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ctions in a TAP controller state (such as capture, shift or update operations) occur with the falling edge of TCK in the st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SDL: Boundary Scan Description Languag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SDL is a subset of VHDL that describes the BS infrastructure and its operation (approved as IEEE std. 1149.1b in 1994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Mandatory features are not described in BSDL (e.g. a BSDL description does not describe the BYPASS register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AD tools making use of BSDL: testability analysis, automatic test pattern generation, fault diagnosis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HSDL: Hierarchical Scan DL and SVF: Serial Vector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SDL complements BSDL, describing how IEEE 1149.1 is implemented at board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VF was jointly developed by Teradyne and Texas Instruments to enable a vendor-independent representation of IEEE 1149.1 test patter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n SVF file contains ASCII statements consisting of commands and parameters of 3 types: state, offset and parallel comman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offee break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583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629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can Educator application (TI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848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 demo BS IC on a P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(“IEEE 1149.1-like”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103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Lunch break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7339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development of BS and its application dom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BS architecture and test access port (TA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basic BS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test data regis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instruction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TAP controller state mach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Why Boundary Scan Test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wo main reasons that led in the mid-80s to the development of BST wer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increasing complexity of integrated circuits (ICs) made it exceedingly difficult to develop test programs for the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functional test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of complex printed circuit boards (PCB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he shrinking effect of using small outline surface mount devices and advanced mounting technologies almost disabled physical access to internal PCB nodes and made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-circuit test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exceedingly difficu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application domain of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ST addresses the structural test of digital printed circuit boar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Keywords: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tructura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igita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CB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narrow scope of BST contributed to its acceptance and to the quick development of products, but the potential of a standard embedded test infrastructure goes much beyond the initial application domai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asic concept of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S makes it possible to decouple the internal IC logic from the pins and allows “direct” access to any PCB node withou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backdriving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effe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3581280"/>
          <a:ext cx="519264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581280"/>
                    <a:ext cx="519264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Test Access Port (TAP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DI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Data Input): The serial data input to the BS register (a floating TDI is read as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DO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Data Output): The serial data output of the BS register (in high-impedance except when a scan operation is in progres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CK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Clock): Clock for the test logi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TMS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Test Mode Select): A control input that defines the operating mode required for the test logic (a floating TMS is read as a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BS archite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esides the BS register, the test logic includes additional data registers, an instruction register and a TAP controller finite state machi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952880" y="1752480"/>
          <a:ext cx="3981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3981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ccess protocol to the BS architectur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places the instruction register in the TDI-TDO pa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proper bit sequence (instruction) is shifted in, setting the contents of the instruction register to select the required data regis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TAP controller places the selected data register in the TDI-TDO pa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vectors may now be shifted in and out through the selected test data regis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Astep</cp:lastModifiedBy>
  <dcterms:modified xsi:type="dcterms:W3CDTF">1998-09-22T07:07:14Z</dcterms:modified>
  <cp:revision>131</cp:revision>
  <dc:subject/>
  <dc:title>Arquitectura mínima</dc:title>
</cp:coreProperties>
</file>