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0900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5588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176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0900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5588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2680" y="151920"/>
            <a:ext cx="84200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23880"/>
            <a:ext cx="990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6248520"/>
            <a:ext cx="83818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Century Schoolbook"/>
              </a:rPr>
              <a:t>LEONARDO INSIGHT II - </a:t>
            </a:r>
            <a:r>
              <a:rPr b="1" lang="en-GB" sz="1000" spc="-1" strike="noStrike">
                <a:solidFill>
                  <a:srgbClr val="000000"/>
                </a:solidFill>
                <a:latin typeface="Century Schoolbook"/>
              </a:rPr>
              <a:t>Basic Test Conce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© J. M. Martins Ferreira - </a:t>
            </a:r>
            <a:r>
              <a:rPr b="0" lang="en-GB" sz="1000" spc="-1" strike="noStrike">
                <a:solidFill>
                  <a:srgbClr val="000000"/>
                </a:solidFill>
                <a:latin typeface="Century Schoolbook"/>
              </a:rPr>
              <a:t>University of</a:t>
            </a: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 Porto (FEUP / DEEC)</a:t>
            </a: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fld id="{C6E4C48B-FBC5-4526-A0F8-1C716E934B5D}" type="slidenum"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LOGO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1127160" cy="15843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1904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entury Schoolbook"/>
              </a:rPr>
              <a:t>Basic test concepts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04760" y="3429000"/>
            <a:ext cx="6933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J. M. Martins Ferreir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(jmf@fe.up.pt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FEUP / DEEC - Rua dos Braga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4099 Porto Codex - PORTUG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Tel. 351-1-2041748 / Fax: 351-2-200361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Observability of a nod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90920" y="1905120"/>
          <a:ext cx="4725720" cy="171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05120"/>
                    <a:ext cx="472572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838080" y="4114800"/>
          <a:ext cx="8305920" cy="1965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14800"/>
                    <a:ext cx="830592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estability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estability is a combined measure of controllability and observabili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High testability facilitates test vector generation and leads to better test effectivenes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o, why aren’t all circuits highly testable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D-not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Used in the test vector generation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D-algorithm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, introduced by Paul Roth in the mid-60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D is a composite logic value that results from driving a s@0 node to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(and /D its dual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33520" y="4038480"/>
          <a:ext cx="8915400" cy="205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038480"/>
                    <a:ext cx="89154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D-algorithm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Drive the node to a logic value that is the opposite of the fault (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if s@1 and </a:t>
            </a: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if s@0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Propagate the error signal (D or /D) to a primary outpu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Justify (backwards) the values that enable the propagation path, until a necessary combination at the primary inputs (a test vector) is foun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A test generation exampl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066680" y="1828800"/>
          <a:ext cx="7696440" cy="431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69644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case of undetectable fault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914400" y="1820880"/>
          <a:ext cx="8001000" cy="44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0880"/>
                    <a:ext cx="800100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acktracking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14400" y="1828800"/>
          <a:ext cx="8229600" cy="452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822960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est generation for sequential circuit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657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Direct application of the D-algorithm leads to the combinational block inputs and outputs, not necessarily to primary inputs or outpu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80000" y="1676520"/>
          <a:ext cx="449748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000" y="1676520"/>
                    <a:ext cx="44974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est generation - step 1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85800" y="1752480"/>
          <a:ext cx="7816680" cy="44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81668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est generation - step 2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5800" y="1752480"/>
          <a:ext cx="8521560" cy="503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521560" cy="50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emphasise the importance of testing in the overall product development cyc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introduce the basic concepts in testing and design for testabili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o prepare the student to understand in detail the standard boundary scan test architectu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est generation - step 3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1762200"/>
          <a:ext cx="8485200" cy="509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62200"/>
                    <a:ext cx="8485200" cy="50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complexity of the general case is however much higher, because..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D-algorithm does not necessarily lead to circuit primary inputs and outpu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Knowledge of the circuit state transition diagram is requir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fault may indeed affect the state transition diagram, in which case the determination of the required sequence at the circuit primary inputs becomes even more difficul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ake the example of Y s@0..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88920" y="1905120"/>
          <a:ext cx="7608960" cy="399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1905120"/>
                    <a:ext cx="760896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Ad hoc testability improvement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Design rules or amendments to avoid or minimise test vector generation problem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Major drawback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Not always reusab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estability depends largely on the type of circui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Some ad hoc testability rul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plit counters to avoid high numbers of clock cycles until the required output combination is achiev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Include reset and preset lines (synchronous or asynchronous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Partition large circuits and add extra inputs and outputs for direct controllability and observability of internal nod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Structured Design for Testability (DfT) methodologi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objective of structured DfT methodologies is to enable a simple way to drive the circuit to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any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given state in a fixed (and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short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) number of clock cyc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Does structured DfT have drawbacks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Design rules (or rather a </a:t>
            </a:r>
            <a:r>
              <a:rPr b="0" i="1" lang="en-GB" sz="2400" spc="-1" strike="noStrike">
                <a:solidFill>
                  <a:srgbClr val="000000"/>
                </a:solidFill>
                <a:latin typeface="Century Schoolbook"/>
              </a:rPr>
              <a:t>design style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) have to accept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Additional silicon area, more pins and higher propagation delays… but is this an additional cos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scan design principl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48320" y="1752480"/>
          <a:ext cx="4572000" cy="456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52480"/>
                    <a:ext cx="4572000" cy="45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657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scan design principle consists of inserting a 2:1 multiplexer between the input of every D flip-flop and its driving logic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Advantages of scan design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Problem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: Part of the combinational circuitry inputs are not directly controllable, since they come from the D-FF outputs (these nodes define the circuit present state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Solution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: The scan flip-flops shown in figure 1.9 enable direct controllability of the D-FF outputs through a simple procedure with a fixed number of clock cyc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etter controllability through scan design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1120" y="1755720"/>
          <a:ext cx="8082000" cy="467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755720"/>
                    <a:ext cx="808200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etter controllability through scan design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1120" y="1755720"/>
          <a:ext cx="8157960" cy="471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755720"/>
                    <a:ext cx="8157960" cy="47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Fault modeling and ss@ faul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Controllability, observability and testabili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est vector generation for combinational circui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estability and test generation in sequential circui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estability improvement via ad hoc solutio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Structured approaches to design for testabili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etter controllability through scan design (3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81120" y="1755720"/>
          <a:ext cx="8157960" cy="46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755720"/>
                    <a:ext cx="815796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etter controllability through scan design (4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1120" y="1755720"/>
          <a:ext cx="8082000" cy="470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755720"/>
                    <a:ext cx="808200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etter controllability through scan design (5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1120" y="1755720"/>
          <a:ext cx="8157960" cy="468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755720"/>
                    <a:ext cx="8157960" cy="46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Advantages of scan design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Problem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: Part of the combinational circuitry outputs are not directly observable, since they go to the D-FF inputs (these nodes define the circuit next state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Solution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: The scan flip-flops shown in figure 1.9 enable direct observability of the D-FF inputs through a simple procedure with a fixed number of clock cyc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etter observability through scan design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1120" y="1755720"/>
          <a:ext cx="8234280" cy="469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755720"/>
                    <a:ext cx="823428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etter observability through scan design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1120" y="1755720"/>
          <a:ext cx="8157960" cy="47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755720"/>
                    <a:ext cx="8157960" cy="47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etter observability through scan design (3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81120" y="1755720"/>
          <a:ext cx="8234280" cy="471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755720"/>
                    <a:ext cx="823428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etter observability through scan design (4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81120" y="1755720"/>
          <a:ext cx="8234280" cy="469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755720"/>
                    <a:ext cx="823428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Better observability through scan design (5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1120" y="1755720"/>
          <a:ext cx="8157960" cy="468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755720"/>
                    <a:ext cx="815796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DfT: </a:t>
            </a:r>
            <a:r>
              <a:rPr b="0" i="1" lang="en-GB" sz="4000" spc="-1" strike="noStrike">
                <a:solidFill>
                  <a:srgbClr val="000000"/>
                </a:solidFill>
                <a:latin typeface="Century Schoolbook"/>
              </a:rPr>
              <a:t>Eventually</a:t>
            </a: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 an overhead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he 2:1 multiplexers increase the propagation delay and required additional silicon area and more pins, but this does not necessarily mean higher co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Benefits due to easier test vector generation and application are difficult to quantif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Design freedom was traded for higher testability, but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partial scan design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might be a preferred intermediate solu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importance of testing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No testing, no manufactur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Cost of testing is very high, but the cost of defective testing strategies is even high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Available test standard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A brief historical perspectiv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Why fault models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Possible physical defects are too many and defect spectrum too wid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Effective test strategies require that the complexity of considering possible malfunction causes is reduced to an acceptabl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Fault models are an abstract representation of defective circuit conditions (a fault is at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logic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level, a defect is at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physical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level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Attributes of a good fault model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Simplicity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, to allow efficient test vector generation procedur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Defect coverage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, to guarantee that the percentage of defective components escaping detection is acceptably low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The single stuck-at fault model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A structural fault model assuming th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Only one node at a time is faul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Only two types of faults: s@0 and s@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Experience has shown that the ss@ fault model has excellent characteristics concerning the attributes previously referr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Controllability of a nod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90920" y="1981080"/>
          <a:ext cx="4725720" cy="171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81080"/>
                    <a:ext cx="47257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85800" y="4218120"/>
          <a:ext cx="8534520" cy="1987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218120"/>
                    <a:ext cx="853452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Schoolbook"/>
              </a:rPr>
              <a:t>Problems due to low controllability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Low controllability leads to difficult test vector generation, since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Our first step to detect a given s@ fault in a node consists of driving it to a logic value that is the opposite of the faul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n an IC, the value at any node can only be controlled from the input pins (the </a:t>
            </a:r>
            <a:r>
              <a:rPr b="0" i="1" lang="en-GB" sz="2400" spc="-1" strike="noStrike">
                <a:solidFill>
                  <a:srgbClr val="000000"/>
                </a:solidFill>
                <a:latin typeface="Century Schoolbook"/>
              </a:rPr>
              <a:t>primary inputs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of the circui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Low observability, as we shall see, has a similar effec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3T16:44:00Z</dcterms:created>
  <dc:creator>José Manuel Martins Ferreira</dc:creator>
  <dc:description/>
  <dc:language>en-US</dc:language>
  <cp:lastModifiedBy>José Manuel Martins Ferreira</cp:lastModifiedBy>
  <dcterms:modified xsi:type="dcterms:W3CDTF">1998-05-26T08:57:32Z</dcterms:modified>
  <cp:revision>74</cp:revision>
  <dc:subject/>
  <dc:title>Arquitectura mínima</dc:title>
</cp:coreProperties>
</file>