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900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5588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900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5588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2388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248520"/>
            <a:ext cx="8381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Century Schoolbook"/>
              </a:rPr>
              <a:t>LEONARDO INSIGHT II - </a:t>
            </a:r>
            <a:r>
              <a:rPr b="1" lang="en-GB" sz="1000" spc="-1" strike="noStrike">
                <a:solidFill>
                  <a:srgbClr val="000000"/>
                </a:solidFill>
                <a:latin typeface="Century Schoolbook"/>
              </a:rPr>
              <a:t>A case study of test program gen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© J. M. Martins Ferreira - </a:t>
            </a:r>
            <a:r>
              <a:rPr b="0" lang="en-GB" sz="1000" spc="-1" strike="noStrike">
                <a:solidFill>
                  <a:srgbClr val="000000"/>
                </a:solidFill>
                <a:latin typeface="Century Schoolbook"/>
              </a:rPr>
              <a:t>University of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 Porto (FEUP / DEEC)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fld id="{CE74085E-09BB-4C58-BDDC-875DB24002D9}" type="slidenum"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5120" y="1904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entury Schoolbook"/>
              </a:rPr>
              <a:t>A case study of test program generation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904760" y="3429000"/>
            <a:ext cx="6933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J. M. Martins Ferrei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(jmf@fe.up.pt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FEUP / DEEC - Rua dos Braga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4099 Porto Codex - PORTUG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el. 351-1-2041748 / Fax: 351-2-200361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" name="LOGO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11271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formation required for testing the IC1+IC2 cluster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90720" y="3581280"/>
          <a:ext cx="8076960" cy="246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581280"/>
                    <a:ext cx="807696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HILO generated 5 test vectors to provide 100% fault coverage of stuck-at pins in both componen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IC6 non-BS cluster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666880" y="1752480"/>
          <a:ext cx="449604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752480"/>
                    <a:ext cx="449604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formation required for testing the IC6 cluster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90720" y="2133720"/>
          <a:ext cx="79246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7924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formation required for testing the IC6 cluster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HILO generated 5 test vectors to provide 100% fault coverage of stuck-at pins in IC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676520" y="2971800"/>
          <a:ext cx="6400800" cy="326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971800"/>
                    <a:ext cx="640080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formation required for testing the BS components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752480"/>
          <a:ext cx="7696080" cy="27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7696080" cy="27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066680" y="4495680"/>
          <a:ext cx="7925040" cy="1452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495680"/>
                    <a:ext cx="792504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test vector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 modified version of the self-diagnosis algorithm generated 6 test vectors for complete short-circuit fault detection in the 24 full-BS interconnect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38080" y="3733920"/>
          <a:ext cx="8686800" cy="204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733920"/>
                    <a:ext cx="868680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serialised test vector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14400" y="2057400"/>
          <a:ext cx="8609040" cy="346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860904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test program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1752480"/>
          <a:ext cx="6705720" cy="48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670572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present practical BS test problems through a real case stud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analyse the implementation of the test protocol using the test instruction set proposed earli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enable the student to acquire the necessary experience to develop small test programs for specific test situa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enable hands-on sess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demonstration boar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information required for test program genera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test vecto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test progra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demonstration board (block diagram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362320" y="1752480"/>
          <a:ext cx="5943600" cy="43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52480"/>
                    <a:ext cx="594360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formation required for checking the BS infrastructur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38080" y="2133720"/>
          <a:ext cx="8305920" cy="292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830592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formation required for full-BS interconnects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Number and identification of the BS chai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Is the interconnect tied to GND or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entury Schoolbook"/>
              </a:rPr>
              <a:t>CC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or output pin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umber of output pins and location of the output cell, the control cell (if any) and the tristate control valu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or input pin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umber of input pins and location of the input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formation required for full-BS interconnects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or bidirectional pin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umber of bidirectional pins and location of the output cell, the input cell, the control cell and the tristate control valu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or primary input pin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umber of primary inputs, identification and tristate control valu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or primary output pin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umber and identification of primary outpu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IC1+IC2 non-BS cluster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1752480"/>
          <a:ext cx="6858000" cy="41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6858000" cy="41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formation required for testing the IC1+IC2 cluster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90720" y="2133720"/>
          <a:ext cx="7924680" cy="31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792468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6:44:00Z</dcterms:created>
  <dc:creator>José Manuel Martins Ferreira</dc:creator>
  <dc:description/>
  <dc:language>en-US</dc:language>
  <cp:lastModifiedBy>Astep</cp:lastModifiedBy>
  <dcterms:modified xsi:type="dcterms:W3CDTF">1998-09-20T21:56:24Z</dcterms:modified>
  <cp:revision>93</cp:revision>
  <dc:subject/>
  <dc:title>Arquitectura mínima</dc:title>
</cp:coreProperties>
</file>