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Test protocol for BS bo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BF0260B3-6D4E-4762-82C5-00EEFDF41BF0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Test protocol for BS boards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904760" y="342900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jmf@fe.up.pt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4099 Porto Codex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1-2041748 / Fax: 351-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" name="LOGO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27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Fault detection in non-BS clusters: Full in-circuit access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ighest requirements in external test resourc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Maximum spe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486400" y="2286000"/>
          <a:ext cx="34671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0"/>
                    <a:ext cx="34671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Fault detection in non-BS clusters:  Peripheral access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termediate solution in terms of required external test resources and spe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486400" y="2286000"/>
          <a:ext cx="32180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0"/>
                    <a:ext cx="3218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Fault detection in non-BS clusters: Primary I/O access only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828800"/>
            <a:ext cx="4343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lowest (when a set of deterministic test vectors is to be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heapest (no external test resources required, besides the primary I/O test chann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486400" y="2286000"/>
          <a:ext cx="32180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0"/>
                    <a:ext cx="3218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vector gene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generation is done by an automatic test pattern generation tool, according to a specific fault model and to the test resources assumed to be availa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otice however that pseudo-random pattern generation (PRPG) and signature analysis (SA) may be used in certain cases and provide an effective and very fast test alternativ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Non-BS clusters testing in boards with multiple BS chain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first two test set up alternatives (full in-circuit access and peripheral access) pose no special requirements, since the BS chains are not used or play a minor ro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When external test resources are available only for the cluster primary I/O pins, the test protocol is the same that was described for short-circuit fault detection in full-BS interconnect tes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Components testing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ue to the main application domain of BS, limited facilities are to be expected for components tes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mplex VLSI circuits will normally include BIST structures, accessible through the RUNBIST instru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remaining cases are limited to a simple “dead or alive” test with the EXTEST or INTEST instruc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the student to understand the main issues that have to be considered when testing a board with B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sent a test protocol that covers the main test actions requir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mphasise insufficiencies in this test protocol and identify the steps requiring further atten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detection in the BS infrastru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Open and short-circuit fault detection in full-BS interconne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ull-BS interconnects testing in boards with multiple BS scan chai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detection in non-BS clust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ing non-BS clusters in boards with multiple BS scan chai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y components dete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protoco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tegrity check of the BS infrastru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ull-BS interconnects te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pen fault det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hort-circuit fault det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on-BS clusters tes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mponents te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mponents with BI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ad or alive” test in non-BIST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ntegrity check of the BS infrastru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etection of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aulty TAP p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Faulty / misplaced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equence of operatio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set (TRST or 5 x TMS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R capture and s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D capture and sc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48320" y="4495680"/>
          <a:ext cx="438156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495680"/>
                    <a:ext cx="43815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pen fault detection in full-BS interconnec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est vectors drive both a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and a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through each driving pin in each interconnect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sert the SAMPLE / PRELOAD instruction and shift in the first test vec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sert EXTEST and apply the remaining test vector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05320" y="4343400"/>
          <a:ext cx="5145120" cy="173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343400"/>
                    <a:ext cx="51451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Short-circuit fault detection in full-BS interconnec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principle: Drive the interconnects under test to opposite logic valu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ort-circuits are potentially destructive and the number of possible faults grows exponentially with the circuit dimen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detection is much simpler that fault diagnosis, sinc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any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multiple interconnect shorts will be detected if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two-interconnect shorts are detect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inary partition algorithm for short-circuit test vector gene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binary partition algorithm guarantees complete fault detection with a minimum number of test vectors (and minimum diagnostic resolution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3809880"/>
          <a:ext cx="5316480" cy="20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9880"/>
                    <a:ext cx="531648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Full-BS interconnect testing in boards with multiple BS chain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asier in the case of open fault dete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ort-circuit fault detection requires a co-ordinated protocol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hift the test vector in through the BS register cells and proceed to the update-DR and select-DR TAP controller states after the last bit is shifted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peat this operation with all remaining BS cha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apture the test vector responses present in the first BS chain (move on to the Capture-DR st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peat this operation with all remaining BS cha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Astep</cp:lastModifiedBy>
  <dcterms:modified xsi:type="dcterms:W3CDTF">1998-09-20T21:46:19Z</dcterms:modified>
  <cp:revision>103</cp:revision>
  <dc:subject/>
  <dc:title>Arquitectura mínima</dc:title>
</cp:coreProperties>
</file>