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7360-9038-46C8-A099-BFF8F7740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282D-789C-44A9-A9A0-37BF323B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0D62-8F77-40CC-8175-D358ED9F1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6D2E-14A5-471B-9552-708075079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313D-0980-4A80-A32B-8F36B8C5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885B-DDEE-4E01-8442-DA125026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BA36-63CF-4FFA-83CD-FFFDFE0E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02B0-E002-4BA2-AEE3-70DBFD68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B584-1608-4D10-A929-04737AA3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F41B-E25C-46AD-8B99-2A06BE52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57D9-5ED7-4598-AFB9-D599F948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217E-7077-4C94-8D64-D97DD7DA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lvl="5" marL="2057400" indent="-228600">
              <a:spcBef>
                <a:spcPts val="700"/>
              </a:spcBef>
              <a:buClr>
                <a:srgbClr val="ffff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lvl="6" marL="2057400" indent="-228600">
              <a:spcBef>
                <a:spcPts val="700"/>
              </a:spcBef>
              <a:buClr>
                <a:srgbClr val="ffff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69A4-D8A0-444C-8D81-C4629EB23B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1676520"/>
            <a:ext cx="7772400" cy="75960"/>
          </a:xfrm>
          <a:prstGeom prst="rect">
            <a:avLst/>
          </a:prstGeom>
          <a:gradFill rotWithShape="0">
            <a:gsLst>
              <a:gs pos="0">
                <a:srgbClr val="5c5c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2120" y="6464160"/>
            <a:ext cx="6478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188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00"/>
                </a:solidFill>
                <a:latin typeface="Century Schoolbook"/>
              </a:rPr>
              <a:t>© </a:t>
            </a:r>
            <a:r>
              <a:rPr b="1" lang="pt-PT" sz="1000" spc="-1" strike="noStrike">
                <a:solidFill>
                  <a:srgbClr val="ffff00"/>
                </a:solidFill>
                <a:latin typeface="Century Schoolbook"/>
              </a:rPr>
              <a:t>LEONARDO INSIGHT II - </a:t>
            </a:r>
            <a:r>
              <a:rPr b="0" lang="pt-PT" sz="1000" spc="-1" strike="noStrike">
                <a:solidFill>
                  <a:srgbClr val="ffff00"/>
                </a:solidFill>
                <a:latin typeface="Century Schoolbook"/>
              </a:rPr>
              <a:t>J. M. Martins Ferreira - </a:t>
            </a:r>
            <a:r>
              <a:rPr b="0" lang="en-GB" sz="1000" spc="-1" strike="noStrike">
                <a:solidFill>
                  <a:srgbClr val="ffff00"/>
                </a:solidFill>
                <a:latin typeface="Century Schoolbook"/>
              </a:rPr>
              <a:t>University of</a:t>
            </a:r>
            <a:r>
              <a:rPr b="0" lang="pt-PT" sz="1000" spc="-1" strike="noStrike">
                <a:solidFill>
                  <a:srgbClr val="ffff00"/>
                </a:solidFill>
                <a:latin typeface="Century Schoolbook"/>
              </a:rPr>
              <a:t> Porto (FEUP / DEEC)</a:t>
            </a:r>
            <a:r>
              <a:rPr b="0" lang="pt-PT" sz="1000" spc="-1" strike="noStrike">
                <a:solidFill>
                  <a:srgbClr val="ffff00"/>
                </a:solidFill>
                <a:latin typeface="Century Schoolbook"/>
              </a:rPr>
              <a:t>	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514240" y="3123720"/>
            <a:ext cx="57913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ts val="0"/>
              </a:lnSpc>
              <a:spcBef>
                <a:spcPts val="1100"/>
              </a:spcBef>
              <a:buNone/>
              <a:tabLst>
                <a:tab algn="l" pos="0"/>
                <a:tab algn="l" pos="98280"/>
                <a:tab algn="l" pos="384120"/>
                <a:tab algn="l" pos="419400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8280"/>
                <a:tab algn="l" pos="384120"/>
                <a:tab algn="l" pos="419400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entury Schoolbook"/>
              </a:rPr>
              <a:t>J. M. Martins Ferreira</a:t>
            </a:r>
            <a:endParaRPr b="0" lang="en-US" sz="1800" spc="-1" strike="noStrike">
              <a:solidFill>
                <a:srgbClr val="ffff00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8280"/>
                <a:tab algn="l" pos="384120"/>
                <a:tab algn="l" pos="419400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entury Schoolbook"/>
              </a:rPr>
              <a:t>University of</a:t>
            </a:r>
            <a:r>
              <a:rPr b="0" lang="pt-PT" sz="1800" spc="-1" strike="noStrike">
                <a:solidFill>
                  <a:srgbClr val="ffff00"/>
                </a:solidFill>
                <a:latin typeface="Century Schoolbook"/>
              </a:rPr>
              <a:t> Porto (FEUP / DEEC)</a:t>
            </a:r>
            <a:endParaRPr b="0" lang="en-US" sz="1800" spc="-1" strike="noStrike">
              <a:solidFill>
                <a:srgbClr val="ffff00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8280"/>
                <a:tab algn="l" pos="384120"/>
                <a:tab algn="l" pos="419400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entury Schoolbook"/>
              </a:rPr>
              <a:t>Rua dos Bragas - 4099 Porto Codex - PORTUGAL</a:t>
            </a:r>
            <a:endParaRPr b="0" lang="en-US" sz="1800" spc="-1" strike="noStrike">
              <a:solidFill>
                <a:srgbClr val="ffff00"/>
              </a:solidFill>
              <a:latin typeface="Century Schoolbook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8280"/>
                <a:tab algn="l" pos="384120"/>
                <a:tab algn="l" pos="419400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entury Schoolbook"/>
              </a:rPr>
              <a:t>( jmf@fe.up.pt )</a:t>
            </a:r>
            <a:endParaRPr b="0" lang="en-US" sz="1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4724280"/>
            <a:ext cx="35049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entury Schoolbook"/>
              </a:rPr>
              <a:t>Leonardo INSIGHT II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entury Schoolbook"/>
              </a:rPr>
              <a:t>CoDeVer Meeting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entury Schoolbook"/>
              </a:rPr>
              <a:t>HIBU, September 21st, 1998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5" name="LOGO" descr=""/>
          <p:cNvPicPr/>
          <p:nvPr/>
        </p:nvPicPr>
        <p:blipFill>
          <a:blip r:embed="rId1"/>
          <a:stretch/>
        </p:blipFill>
        <p:spPr>
          <a:xfrm>
            <a:off x="7238880" y="4800600"/>
            <a:ext cx="1127160" cy="1584360"/>
          </a:xfrm>
          <a:prstGeom prst="rect">
            <a:avLst/>
          </a:prstGeom>
          <a:ln w="0">
            <a:noFill/>
          </a:ln>
        </p:spPr>
      </p:pic>
      <p:pic>
        <p:nvPicPr>
          <p:cNvPr id="46" name="jmf4" descr=""/>
          <p:cNvPicPr/>
          <p:nvPr/>
        </p:nvPicPr>
        <p:blipFill>
          <a:blip r:embed="rId2"/>
          <a:stretch/>
        </p:blipFill>
        <p:spPr>
          <a:xfrm>
            <a:off x="1219320" y="3257640"/>
            <a:ext cx="1218960" cy="914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520" y="609480"/>
            <a:ext cx="82296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ts val="0"/>
              </a:lnSpc>
              <a:spcBef>
                <a:spcPts val="1100"/>
              </a:spcBef>
              <a:tabLst>
                <a:tab algn="l" pos="0"/>
                <a:tab algn="l" pos="98280"/>
                <a:tab algn="l" pos="384120"/>
                <a:tab algn="l" pos="419400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8280"/>
                <a:tab algn="l" pos="384120"/>
                <a:tab algn="l" pos="419400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entury Schoolbook"/>
              </a:rPr>
              <a:t>BST reuse beyond structural test: Extending the application domain of this test technolog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8280"/>
                <a:tab algn="l" pos="384120"/>
                <a:tab algn="l" pos="419400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entury Schoolbook"/>
              </a:rPr>
              <a:t>(part 1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8280"/>
                <a:tab algn="l" pos="384120"/>
                <a:tab algn="l" pos="419400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The instruction register: Mandatory instructions (1)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The EXTEST instruction selects the BS register and imposes the (external) test mode in each BS cell, decoupling the IC core logic from the pins (the EXTEST instruction has a pre-defined code of all-</a:t>
            </a:r>
            <a:r>
              <a:rPr b="1" lang="en-GB" sz="2800" spc="-1" strike="noStrike">
                <a:solidFill>
                  <a:srgbClr val="ffff00"/>
                </a:solidFill>
                <a:latin typeface="Century Schoolbook"/>
              </a:rPr>
              <a:t>0</a:t>
            </a: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s)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The SAMPLE / PRELOAD instruction also selects the BS register, but the BS cells are now in transparent mode (this instruction does not have a pre-defined code)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79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Review of BS concept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The instruction register: Mandatory instructions (2)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Both EXTEST and SAMPLE / PRELOAD are used to test the board interconnects, but S/P is used to shift in the </a:t>
            </a:r>
            <a:r>
              <a:rPr b="0" i="1" lang="en-GB" sz="2800" spc="-1" strike="noStrike">
                <a:solidFill>
                  <a:srgbClr val="ffff00"/>
                </a:solidFill>
                <a:latin typeface="Century Schoolbook"/>
              </a:rPr>
              <a:t>first</a:t>
            </a: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 test vector (why?)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The BYPASS instruction selects the 1-bit bypass register in those ICs which do not play a role in the current test operation (this instruction has an all-</a:t>
            </a:r>
            <a:r>
              <a:rPr b="1" lang="en-GB" sz="2800" spc="-1" strike="noStrike">
                <a:solidFill>
                  <a:srgbClr val="ffff00"/>
                </a:solidFill>
                <a:latin typeface="Century Schoolbook"/>
              </a:rPr>
              <a:t>1</a:t>
            </a: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 code and is automatically loaded into the IR on reset)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82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Review of BS concept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TAP controller state diagram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286000" y="1828800"/>
          <a:ext cx="4935600" cy="463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828800"/>
                    <a:ext cx="4935600" cy="463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Review of BS concept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A BS test controller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The BS test controller model that will be presented in the next slides has the following objectives: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To identify the main information sources required for test program generation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To present a formal (yet simple) specification language to write small test programs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To provide a tool for test program validation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To enable hands-on sessions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Review of BS concept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Instructions to control the BS infrastructure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2095560"/>
          <a:ext cx="7924680" cy="396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95560"/>
                    <a:ext cx="7924680" cy="39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Review of BS concept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Instructions for synchronisation with external test resources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838080" y="2514600"/>
          <a:ext cx="7620120" cy="18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14600"/>
                    <a:ext cx="7620120" cy="18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Review of BS concept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Instructions to control internal test resources and test flow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5800" y="2247840"/>
          <a:ext cx="8229600" cy="304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47840"/>
                    <a:ext cx="8229600" cy="30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Review of BS concept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Test set up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A PC running Windows 95, a 5 V power supply, the demonstration board and the flat-cable connector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pic>
        <p:nvPicPr>
          <p:cNvPr id="104" name="figura6.1" descr=""/>
          <p:cNvPicPr/>
          <p:nvPr/>
        </p:nvPicPr>
        <p:blipFill>
          <a:blip r:embed="rId1"/>
          <a:stretch/>
        </p:blipFill>
        <p:spPr>
          <a:xfrm>
            <a:off x="4724280" y="3048120"/>
            <a:ext cx="3751560" cy="3047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Review of BS concept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Review of BS concepts: Case study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Testing the IC1+IC2 cluster via PRPG / PSA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Review of BS concept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9480" y="2666880"/>
          <a:ext cx="4937400" cy="36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666880"/>
                    <a:ext cx="4937400" cy="36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5715000" y="2895480"/>
          <a:ext cx="3200400" cy="192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2895480"/>
                    <a:ext cx="320040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Coffee break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09680" y="2514600"/>
            <a:ext cx="4583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Outline of the presentation (morning)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Review of BS concepts (IC and PCB levels)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marL="329040" indent="-32904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Extending the application domain of BST / Introduction to prototype debugging and validation through BS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marL="329040" indent="-32904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Lunch break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marL="329040" indent="-329040">
              <a:spcBef>
                <a:spcPts val="700"/>
              </a:spcBef>
              <a:buClr>
                <a:srgbClr val="b2b2b2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2b2b2"/>
                </a:solidFill>
                <a:latin typeface="Century Schoolbook"/>
              </a:rPr>
              <a:t>Prototype debugging and validation through BS / Real-time fault detection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marL="329040" indent="-329040">
              <a:spcBef>
                <a:spcPts val="700"/>
              </a:spcBef>
              <a:buClr>
                <a:srgbClr val="b2b2b2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2b2b2"/>
                </a:solidFill>
                <a:latin typeface="Century Schoolbook"/>
              </a:rPr>
              <a:t>Parametric testing through BS / The 1149.4 proposed standard for mixed-signal testing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215200" y="1981080"/>
            <a:ext cx="83844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Motivation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BS is traditionally used for structural testing of digital PCBs in a production test environment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marL="325800" indent="-32580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The general question underlying this seminar consists of deciding if it would be of interest: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05600" indent="-27144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To widen its application domain (e.g. functional testing, parametric testing)?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05600" indent="-27144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To reuse this test technology in other stages during the product life cycle?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Introduc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BS and the product life cycle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62120" y="5257800"/>
          <a:ext cx="7581960" cy="10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257800"/>
                    <a:ext cx="758196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In other words, what modifications would result to the diagram below if: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An extended BS infrastructure (supporting optional instructions) was available?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An on-board controller was available?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An extended BS infrastructure (supporting additional test structures) was available?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58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Introduc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Part 1: Outline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BST at IC level: The BS architecture and test access port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BS at PCB level: Test protocol and test controller model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Application example: Non-BS cluster testing through PRPG / PSA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Review of BS concept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The BS architecture and TAP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Besides the BS register, the test logic includes additional data registers, an instruction register and a TAP controller finite state machine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3971880" cy="4591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Review of BS concept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Access protocol to the BS architecture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The TAP controller places the instruction register in the TDI-TDO path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A bit sequence (instruction) is shifted in, setting the contents of the instruction register to select the required data register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The TAP controller places the selected data register in the TDI-TDO path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Test vectors may now be shifted in and out through the selected test data register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Review of BS concept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The basic BS cell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Three main operating modes: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Transparent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Controllability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Observability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809880" y="3786120"/>
            <a:ext cx="4524480" cy="2146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Review of BS concept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BS: The basic test protocol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Shift in a new test vector (left mux in Shift mode, right mux in Normal or Test modes)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Apply the test vector (left mux in Shift or Capture modes, right mux in Test mode)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Capture the responses (left mux in Capture mode, right mux in Normal or Test modes)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Shift out the responses (left mux in Shift mode, right mux in Normal or Test modes)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477120" y="762120"/>
            <a:ext cx="2514600" cy="1193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Review of BS concept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2T21:27:04Z</dcterms:created>
  <dc:creator>José Manuel Martins Ferreira</dc:creator>
  <dc:description/>
  <dc:language>en-US</dc:language>
  <cp:lastModifiedBy>Astep</cp:lastModifiedBy>
  <cp:lastPrinted>1998-09-14T18:40:08Z</cp:lastPrinted>
  <dcterms:modified xsi:type="dcterms:W3CDTF">1998-09-22T06:56:06Z</dcterms:modified>
  <cp:revision>96</cp:revision>
  <dc:subject/>
  <dc:title>No Slide Title</dc:title>
</cp:coreProperties>
</file>