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CBF9-20B9-4CCC-A69A-4F504A63E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237C-DD28-4AD2-A773-E234EC528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E0B7-E0BD-4D0A-9663-E62CBF299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E813-B7F7-4227-99BD-8D2BAE363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3C70-AC2A-421B-9548-80E9A7E45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22D2-8857-4480-9497-D9E7AFA35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EBB1-AB64-453C-BEE4-106F0FE12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47DF-265D-4539-BA79-3E72AE450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D137-CD2F-4E23-A1DF-8618DF8F5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7CD0-C170-45A1-800A-6C80FC77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075D-42B1-41BE-B48D-1204B9E7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260F-8DC6-498F-84CD-C751F3FF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entury Schoolbook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entury Schoolbook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entury Schoolbook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entury Schoolbook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entury Schoolbook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  <a:p>
            <a:pPr lvl="5" marL="2057400" indent="-228600">
              <a:spcBef>
                <a:spcPts val="700"/>
              </a:spcBef>
              <a:buClr>
                <a:srgbClr val="ffff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entury Schoolbook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  <a:p>
            <a:pPr lvl="6" marL="2057400" indent="-228600">
              <a:spcBef>
                <a:spcPts val="700"/>
              </a:spcBef>
              <a:buClr>
                <a:srgbClr val="ffff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entury Schoolbook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D4824-0D08-41C7-B437-20EB8B5EB2D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1676520"/>
            <a:ext cx="7772400" cy="75960"/>
          </a:xfrm>
          <a:prstGeom prst="rect">
            <a:avLst/>
          </a:prstGeom>
          <a:gradFill rotWithShape="0">
            <a:gsLst>
              <a:gs pos="0">
                <a:srgbClr val="5c5c00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2120" y="6464160"/>
            <a:ext cx="6478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8188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00"/>
                </a:solidFill>
                <a:latin typeface="Century Schoolbook"/>
              </a:rPr>
              <a:t>© </a:t>
            </a:r>
            <a:r>
              <a:rPr b="1" lang="pt-PT" sz="1000" spc="-1" strike="noStrike">
                <a:solidFill>
                  <a:srgbClr val="ffff00"/>
                </a:solidFill>
                <a:latin typeface="Century Schoolbook"/>
              </a:rPr>
              <a:t>LEONARDO INSIGHT II - </a:t>
            </a:r>
            <a:r>
              <a:rPr b="0" lang="pt-PT" sz="1000" spc="-1" strike="noStrike">
                <a:solidFill>
                  <a:srgbClr val="ffff00"/>
                </a:solidFill>
                <a:latin typeface="Century Schoolbook"/>
              </a:rPr>
              <a:t>J. M. Martins Ferreira - </a:t>
            </a:r>
            <a:r>
              <a:rPr b="0" lang="en-GB" sz="1000" spc="-1" strike="noStrike">
                <a:solidFill>
                  <a:srgbClr val="ffff00"/>
                </a:solidFill>
                <a:latin typeface="Century Schoolbook"/>
              </a:rPr>
              <a:t>University of</a:t>
            </a:r>
            <a:r>
              <a:rPr b="0" lang="pt-PT" sz="1000" spc="-1" strike="noStrike">
                <a:solidFill>
                  <a:srgbClr val="ffff00"/>
                </a:solidFill>
                <a:latin typeface="Century Schoolbook"/>
              </a:rPr>
              <a:t> Porto (FEUP / DEEC)</a:t>
            </a:r>
            <a:r>
              <a:rPr b="0" lang="pt-PT" sz="1000" spc="-1" strike="noStrike">
                <a:solidFill>
                  <a:srgbClr val="ffff00"/>
                </a:solidFill>
                <a:latin typeface="Century Schoolbook"/>
              </a:rPr>
              <a:t>	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514240" y="3123720"/>
            <a:ext cx="579132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ts val="0"/>
              </a:lnSpc>
              <a:spcBef>
                <a:spcPts val="1100"/>
              </a:spcBef>
              <a:buNone/>
              <a:tabLst>
                <a:tab algn="l" pos="0"/>
                <a:tab algn="l" pos="98280"/>
                <a:tab algn="l" pos="384120"/>
                <a:tab algn="l" pos="4194000"/>
                <a:tab algn="l" pos="4478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entury Schoolboo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8280"/>
                <a:tab algn="l" pos="384120"/>
                <a:tab algn="l" pos="4194000"/>
                <a:tab algn="l" pos="4478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00"/>
                </a:solidFill>
                <a:latin typeface="Century Schoolbook"/>
              </a:rPr>
              <a:t>J. M. Martins Ferreira</a:t>
            </a:r>
            <a:endParaRPr b="0" lang="en-US" sz="1800" spc="-1" strike="noStrike">
              <a:solidFill>
                <a:srgbClr val="ffff00"/>
              </a:solidFill>
              <a:latin typeface="Century Schoolboo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8280"/>
                <a:tab algn="l" pos="384120"/>
                <a:tab algn="l" pos="4194000"/>
                <a:tab algn="l" pos="4478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entury Schoolbook"/>
              </a:rPr>
              <a:t>University of</a:t>
            </a:r>
            <a:r>
              <a:rPr b="0" lang="pt-PT" sz="1800" spc="-1" strike="noStrike">
                <a:solidFill>
                  <a:srgbClr val="ffff00"/>
                </a:solidFill>
                <a:latin typeface="Century Schoolbook"/>
              </a:rPr>
              <a:t> Porto (FEUP / DEEC)</a:t>
            </a:r>
            <a:endParaRPr b="0" lang="en-US" sz="1800" spc="-1" strike="noStrike">
              <a:solidFill>
                <a:srgbClr val="ffff00"/>
              </a:solidFill>
              <a:latin typeface="Century Schoolboo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8280"/>
                <a:tab algn="l" pos="384120"/>
                <a:tab algn="l" pos="4194000"/>
                <a:tab algn="l" pos="4478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00"/>
                </a:solidFill>
                <a:latin typeface="Century Schoolbook"/>
              </a:rPr>
              <a:t>Rua dos Bragas - 4099 Porto Codex - PORTUGAL</a:t>
            </a:r>
            <a:endParaRPr b="0" lang="en-US" sz="1800" spc="-1" strike="noStrike">
              <a:solidFill>
                <a:srgbClr val="ffff00"/>
              </a:solidFill>
              <a:latin typeface="Century Schoolbook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8280"/>
                <a:tab algn="l" pos="384120"/>
                <a:tab algn="l" pos="4194000"/>
                <a:tab algn="l" pos="4478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00"/>
                </a:solidFill>
                <a:latin typeface="Century Schoolbook"/>
              </a:rPr>
              <a:t>( jmf@fe.up.pt )</a:t>
            </a:r>
            <a:endParaRPr b="0" lang="en-US" sz="1800" spc="-1" strike="noStrike">
              <a:solidFill>
                <a:srgbClr val="ffff00"/>
              </a:solidFill>
              <a:latin typeface="Century Schoolbook"/>
            </a:endParaRPr>
          </a:p>
        </p:txBody>
      </p:sp>
      <p:pic>
        <p:nvPicPr>
          <p:cNvPr id="44" name="LOGO" descr=""/>
          <p:cNvPicPr/>
          <p:nvPr/>
        </p:nvPicPr>
        <p:blipFill>
          <a:blip r:embed="rId1"/>
          <a:stretch/>
        </p:blipFill>
        <p:spPr>
          <a:xfrm>
            <a:off x="7238880" y="4800600"/>
            <a:ext cx="1127160" cy="1584360"/>
          </a:xfrm>
          <a:prstGeom prst="rect">
            <a:avLst/>
          </a:prstGeom>
          <a:ln w="0">
            <a:noFill/>
          </a:ln>
        </p:spPr>
      </p:pic>
      <p:pic>
        <p:nvPicPr>
          <p:cNvPr id="45" name="jmf4" descr=""/>
          <p:cNvPicPr/>
          <p:nvPr/>
        </p:nvPicPr>
        <p:blipFill>
          <a:blip r:embed="rId2"/>
          <a:stretch/>
        </p:blipFill>
        <p:spPr>
          <a:xfrm>
            <a:off x="1219320" y="3257640"/>
            <a:ext cx="1218960" cy="914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09480"/>
            <a:ext cx="822960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ts val="0"/>
              </a:lnSpc>
              <a:spcBef>
                <a:spcPts val="1100"/>
              </a:spcBef>
              <a:tabLst>
                <a:tab algn="l" pos="0"/>
                <a:tab algn="l" pos="98280"/>
                <a:tab algn="l" pos="384120"/>
                <a:tab algn="l" pos="4194000"/>
                <a:tab algn="l" pos="4478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8280"/>
                <a:tab algn="l" pos="384120"/>
                <a:tab algn="l" pos="4194000"/>
                <a:tab algn="l" pos="4478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entury Schoolbook"/>
              </a:rPr>
              <a:t>BST reuse beyond structural test: Extending the application domain of this test technolog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8280"/>
                <a:tab algn="l" pos="384120"/>
                <a:tab algn="l" pos="4194000"/>
                <a:tab algn="l" pos="4478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entury Schoolbook"/>
              </a:rPr>
              <a:t>(part 2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8280"/>
                <a:tab algn="l" pos="384120"/>
                <a:tab algn="l" pos="4194000"/>
                <a:tab algn="l" pos="4478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4724280"/>
            <a:ext cx="35049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Century Schoolbook"/>
              </a:rPr>
              <a:t>Leonardo INSIGHT II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Century Schoolbook"/>
              </a:rPr>
              <a:t>CoDeVer Meeting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Century Schoolbook"/>
              </a:rPr>
              <a:t>HIBU, September 21st, 1998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entury Schoolbook"/>
              </a:rPr>
              <a:t>Definition of a debugging controller model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entury Schoolbook"/>
              </a:rPr>
              <a:t>Hardware debugging via a scan infrastructure versus traditional in-circuit emulators (ICEs):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  <a:p>
            <a:pPr lvl="1" marL="705600" indent="-271440">
              <a:spcBef>
                <a:spcPts val="601"/>
              </a:spcBef>
              <a:buClr>
                <a:srgbClr val="ffff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entury Schoolbook"/>
              </a:rPr>
              <a:t>The number of pins available for controllability / observability is much larger</a:t>
            </a:r>
            <a:endParaRPr b="0" lang="en-US" sz="2400" spc="-1" strike="noStrike">
              <a:solidFill>
                <a:srgbClr val="ffff00"/>
              </a:solidFill>
              <a:latin typeface="Century Schoolbook"/>
            </a:endParaRPr>
          </a:p>
          <a:p>
            <a:pPr lvl="1" marL="705600" indent="-271440">
              <a:spcBef>
                <a:spcPts val="601"/>
              </a:spcBef>
              <a:buClr>
                <a:srgbClr val="ffff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entury Schoolbook"/>
              </a:rPr>
              <a:t>Speed may be slower, due to the serial nature of scan operations</a:t>
            </a:r>
            <a:endParaRPr b="0" lang="en-US" sz="2400" spc="-1" strike="noStrike">
              <a:solidFill>
                <a:srgbClr val="ffff00"/>
              </a:solidFill>
              <a:latin typeface="Century Schoolbook"/>
            </a:endParaRPr>
          </a:p>
          <a:p>
            <a:pPr marL="325800" indent="-325800">
              <a:spcBef>
                <a:spcPts val="700"/>
              </a:spcBef>
              <a:buClr>
                <a:srgbClr val="ffff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entury Schoolbook"/>
              </a:rPr>
              <a:t>Splitting test and debug operations enables an easy to expand model and may improve speed through concurrent execution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76" name=""/>
          <p:cNvSpPr/>
          <p:nvPr/>
        </p:nvSpPr>
        <p:spPr>
          <a:xfrm>
            <a:off x="2438280" y="304920"/>
            <a:ext cx="63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2b2b2"/>
                </a:solidFill>
                <a:latin typeface="Century Schoolbook"/>
              </a:rPr>
              <a:t>Prototype debugging and validatio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entury Schoolbook"/>
              </a:rPr>
              <a:t>A dual-processor built-in controller model for debug and test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78" name=""/>
          <p:cNvSpPr/>
          <p:nvPr/>
        </p:nvSpPr>
        <p:spPr>
          <a:xfrm>
            <a:off x="2438280" y="304920"/>
            <a:ext cx="63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2b2b2"/>
                </a:solidFill>
                <a:latin typeface="Century Schoolbook"/>
              </a:rPr>
              <a:t>Prototype debugging and validatio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762120" y="1828800"/>
          <a:ext cx="7726320" cy="467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828800"/>
                    <a:ext cx="7726320" cy="46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entury Schoolbook"/>
              </a:rPr>
              <a:t>CPUCLF: Basic operations and instructions to support SS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82" name=""/>
          <p:cNvSpPr/>
          <p:nvPr/>
        </p:nvSpPr>
        <p:spPr>
          <a:xfrm>
            <a:off x="2438280" y="304920"/>
            <a:ext cx="63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2b2b2"/>
                </a:solidFill>
                <a:latin typeface="Century Schoolbook"/>
              </a:rPr>
              <a:t>Prototype debugging and validatio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33526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entury Schoolbook"/>
              </a:rPr>
              <a:t>Instructions to support SS operations: 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990720" y="4191120"/>
          <a:ext cx="8153280" cy="157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4191120"/>
                    <a:ext cx="8153280" cy="15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entury Schoolbook"/>
              </a:rPr>
              <a:t>Single-stepping may be implemented by controlling the number of clock cycles applied to the system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entury Schoolbook"/>
              </a:rPr>
              <a:t>CPUCLF: Basic operations and instructions to support BP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4267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entury Schoolbook"/>
              </a:rPr>
              <a:t>Instructions to support BP operations: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304920"/>
            <a:ext cx="63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2b2b2"/>
                </a:solidFill>
                <a:latin typeface="Century Schoolbook"/>
              </a:rPr>
              <a:t>Prototype debugging and validatio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990720" y="5029200"/>
          <a:ext cx="8153280" cy="1571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5029200"/>
                    <a:ext cx="8153280" cy="15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entury Schoolbook"/>
              </a:rPr>
              <a:t>Breakpoint operating modes may be implemented by conditionally applying clock cycles to the system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entury Schoolbook"/>
              </a:rPr>
              <a:t>Optional BS instructions may improve the BP operations supported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entury Schoolbook"/>
              </a:rPr>
              <a:t>CPUCLF: Basic operations to support RT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04920"/>
            <a:ext cx="63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2b2b2"/>
                </a:solidFill>
                <a:latin typeface="Century Schoolbook"/>
              </a:rPr>
              <a:t>Prototype debugging and validatio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entury Schoolbook"/>
              </a:rPr>
              <a:t>Real-time operating modes may be implemented by: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  <a:p>
            <a:pPr lvl="1" marL="720720" indent="-277200">
              <a:spcBef>
                <a:spcPts val="601"/>
              </a:spcBef>
              <a:buClr>
                <a:srgbClr val="ffff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entury Schoolbook"/>
              </a:rPr>
              <a:t>Controlling the system clock start and stop times</a:t>
            </a:r>
            <a:endParaRPr b="0" lang="en-US" sz="2400" spc="-1" strike="noStrike">
              <a:solidFill>
                <a:srgbClr val="ffff00"/>
              </a:solidFill>
              <a:latin typeface="Century Schoolbook"/>
            </a:endParaRPr>
          </a:p>
          <a:p>
            <a:pPr lvl="1" marL="720720" indent="-277200">
              <a:spcBef>
                <a:spcPts val="601"/>
              </a:spcBef>
              <a:buClr>
                <a:srgbClr val="ffff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entury Schoolbook"/>
              </a:rPr>
              <a:t>Enabling “cycle stretching”: Repeat the application of N clock cycles, stretching one cycle in each run — start with the first clock cycle, stop when a time-dependent error is eliminated or the last of the possible N</a:t>
            </a:r>
            <a:r>
              <a:rPr b="0" lang="en-GB" sz="2400" spc="-1" strike="noStrike" baseline="30000">
                <a:solidFill>
                  <a:srgbClr val="ffff00"/>
                </a:solidFill>
                <a:latin typeface="Century Schoolbook"/>
              </a:rPr>
              <a:t>2</a:t>
            </a:r>
            <a:r>
              <a:rPr b="0" lang="en-GB" sz="2400" spc="-1" strike="noStrike">
                <a:solidFill>
                  <a:srgbClr val="ffff00"/>
                </a:solidFill>
                <a:latin typeface="Century Schoolbook"/>
              </a:rPr>
              <a:t> clock cycles is applied</a:t>
            </a:r>
            <a:endParaRPr b="0" lang="en-US" sz="2400" spc="-1" strike="noStrike">
              <a:solidFill>
                <a:srgbClr val="ffff00"/>
              </a:solidFill>
              <a:latin typeface="Century Schoolbook"/>
            </a:endParaRPr>
          </a:p>
          <a:p>
            <a:pPr marL="332640" indent="-332640">
              <a:spcBef>
                <a:spcPts val="700"/>
              </a:spcBef>
              <a:buClr>
                <a:srgbClr val="ffff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entury Schoolbook"/>
              </a:rPr>
              <a:t>Optional BS instructions may improve the RT operations supported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entury Schoolbook"/>
              </a:rPr>
              <a:t>CPUCLF: Instructions supporting RT operations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914400" y="2514600"/>
          <a:ext cx="8229600" cy="268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514600"/>
                    <a:ext cx="8229600" cy="26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2438280" y="304920"/>
            <a:ext cx="63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2b2b2"/>
                </a:solidFill>
                <a:latin typeface="Century Schoolbook"/>
              </a:rPr>
              <a:t>Prototype debugging and validatio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entury Schoolbook"/>
              </a:rPr>
              <a:t>CPUCLF: Basic operations to support COV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entury Schoolbook"/>
              </a:rPr>
              <a:t>Controllability, observability and verification operations refer to directly accessible pins (parallel I/Os):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entury Schoolbook"/>
              </a:rPr>
              <a:t>Control the logic level of an output pin</a:t>
            </a:r>
            <a:endParaRPr b="0" lang="en-US" sz="2400" spc="-1" strike="noStrike">
              <a:solidFill>
                <a:srgbClr val="ffff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entury Schoolbook"/>
              </a:rPr>
              <a:t>Select (for observation) one of the input pins </a:t>
            </a:r>
            <a:endParaRPr b="0" lang="en-US" sz="2400" spc="-1" strike="noStrike">
              <a:solidFill>
                <a:srgbClr val="ffff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entury Schoolbook"/>
              </a:rPr>
              <a:t>Enable conditional actions according to specific circuit conditions</a:t>
            </a:r>
            <a:endParaRPr b="0" lang="en-US" sz="24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02" name=""/>
          <p:cNvSpPr/>
          <p:nvPr/>
        </p:nvSpPr>
        <p:spPr>
          <a:xfrm>
            <a:off x="2438280" y="304920"/>
            <a:ext cx="63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2b2b2"/>
                </a:solidFill>
                <a:latin typeface="Century Schoolbook"/>
              </a:rPr>
              <a:t>Prototype debugging and validatio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entury Schoolbook"/>
              </a:rPr>
              <a:t>CPUCLF: Instructions supporting COV operations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04" name=""/>
          <p:cNvSpPr/>
          <p:nvPr/>
        </p:nvSpPr>
        <p:spPr>
          <a:xfrm>
            <a:off x="2438280" y="304920"/>
            <a:ext cx="63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2b2b2"/>
                </a:solidFill>
                <a:latin typeface="Century Schoolbook"/>
              </a:rPr>
              <a:t>Prototype debugging and validatio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85800" y="2448000"/>
          <a:ext cx="8458200" cy="376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448000"/>
                    <a:ext cx="8458200" cy="37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entury Schoolbook"/>
              </a:rPr>
              <a:t>CPUCLF: Basic operations to support CIT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entury Schoolbook"/>
              </a:rPr>
              <a:t>If a dedicated processor architecture is used to implement this instruction set, additional operations for controlling internal resources and program flow are required: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entury Schoolbook"/>
              </a:rPr>
              <a:t>Operations related to an internal counter</a:t>
            </a:r>
            <a:endParaRPr b="0" lang="en-US" sz="2400" spc="-1" strike="noStrike">
              <a:solidFill>
                <a:srgbClr val="ffff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entury Schoolbook"/>
              </a:rPr>
              <a:t>Synchronisation with external test equipment or other on-board controllers</a:t>
            </a:r>
            <a:endParaRPr b="0" lang="en-US" sz="2400" spc="-1" strike="noStrike">
              <a:solidFill>
                <a:srgbClr val="ffff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entury Schoolbook"/>
              </a:rPr>
              <a:t>Operations to control program execution flow (conditional, re-direction and stop)</a:t>
            </a:r>
            <a:endParaRPr b="0" lang="en-US" sz="24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09" name=""/>
          <p:cNvSpPr/>
          <p:nvPr/>
        </p:nvSpPr>
        <p:spPr>
          <a:xfrm>
            <a:off x="2438280" y="304920"/>
            <a:ext cx="63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2b2b2"/>
                </a:solidFill>
                <a:latin typeface="Century Schoolbook"/>
              </a:rPr>
              <a:t>Prototype debugging and validatio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entury Schoolbook"/>
              </a:rPr>
              <a:t>CPUCLF: Instructions supporting CIT operations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11" name=""/>
          <p:cNvSpPr/>
          <p:nvPr/>
        </p:nvSpPr>
        <p:spPr>
          <a:xfrm>
            <a:off x="2438280" y="304920"/>
            <a:ext cx="63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2b2b2"/>
                </a:solidFill>
                <a:latin typeface="Century Schoolbook"/>
              </a:rPr>
              <a:t>Prototype debugging and validatio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5800" y="2387520"/>
          <a:ext cx="8458200" cy="3513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387520"/>
                    <a:ext cx="84582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entury Schoolbook"/>
              </a:rPr>
              <a:t>Part 2: Outline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entury Schoolbook"/>
              </a:rPr>
              <a:t>Extending the application domain of BST beyond structural testing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entury Schoolbook"/>
              </a:rPr>
              <a:t>Possible application areas</a:t>
            </a:r>
            <a:endParaRPr b="0" lang="en-US" sz="2400" spc="-1" strike="noStrike">
              <a:solidFill>
                <a:srgbClr val="ffff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entury Schoolbook"/>
              </a:rPr>
              <a:t>Limitations of the current 1149.1 standard </a:t>
            </a:r>
            <a:endParaRPr b="0" lang="en-US" sz="2400" spc="-1" strike="noStrike">
              <a:solidFill>
                <a:srgbClr val="ffff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entury Schoolbook"/>
              </a:rPr>
              <a:t>Introduction to prototype debugging and validation through BS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entury Schoolbook"/>
              </a:rPr>
              <a:t>A debug and test controller model</a:t>
            </a:r>
            <a:endParaRPr b="0" lang="en-US" sz="24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50" name=""/>
          <p:cNvSpPr/>
          <p:nvPr/>
        </p:nvSpPr>
        <p:spPr>
          <a:xfrm>
            <a:off x="2438280" y="304920"/>
            <a:ext cx="63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2b2b2"/>
                </a:solidFill>
                <a:latin typeface="Century Schoolbook"/>
              </a:rPr>
              <a:t>A BS test controller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entury Schoolbook"/>
              </a:rPr>
              <a:t>Example of a simple CPUCLF program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15" name=""/>
          <p:cNvSpPr/>
          <p:nvPr/>
        </p:nvSpPr>
        <p:spPr>
          <a:xfrm>
            <a:off x="2438280" y="304920"/>
            <a:ext cx="63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2b2b2"/>
                </a:solidFill>
                <a:latin typeface="Century Schoolbook"/>
              </a:rPr>
              <a:t>Prototype debugging and validatio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2514600"/>
            <a:ext cx="8001000" cy="34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50840"/>
                <a:tab algn="l" pos="228924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50840"/>
                <a:tab algn="l" pos="228924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urier New"/>
              </a:rPr>
              <a:t>cnt:</a:t>
            </a:r>
            <a:r>
              <a:rPr b="0" lang="en-GB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urier New"/>
              </a:rPr>
              <a:t>setout</a:t>
            </a:r>
            <a:r>
              <a:rPr b="0" lang="en-GB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urier New"/>
              </a:rPr>
              <a:t>1</a:t>
            </a:r>
            <a:r>
              <a:rPr b="0" lang="en-GB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urier New"/>
              </a:rPr>
              <a:t>; reset..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50840"/>
                <a:tab algn="l" pos="228924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urier New"/>
              </a:rPr>
              <a:t>clk</a:t>
            </a:r>
            <a:r>
              <a:rPr b="0" lang="en-GB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urier New"/>
              </a:rPr>
              <a:t>; ... counte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50840"/>
                <a:tab algn="l" pos="228924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urier New"/>
              </a:rPr>
              <a:t>rstout</a:t>
            </a:r>
            <a:r>
              <a:rPr b="0" lang="en-GB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urier New"/>
              </a:rPr>
              <a:t>1</a:t>
            </a:r>
            <a:r>
              <a:rPr b="0" lang="en-GB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urier New"/>
              </a:rPr>
              <a:t>; disable reset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50840"/>
                <a:tab algn="l" pos="228924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urier New"/>
              </a:rPr>
              <a:t>setout</a:t>
            </a:r>
            <a:r>
              <a:rPr b="0" lang="en-GB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urier New"/>
              </a:rPr>
              <a:t>0</a:t>
            </a:r>
            <a:r>
              <a:rPr b="0" lang="en-GB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urier New"/>
              </a:rPr>
              <a:t>; enable counte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50840"/>
                <a:tab algn="l" pos="228924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urier New"/>
              </a:rPr>
              <a:t>clk_n</a:t>
            </a:r>
            <a:r>
              <a:rPr b="0" lang="en-GB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urier New"/>
              </a:rPr>
              <a:t>15</a:t>
            </a:r>
            <a:r>
              <a:rPr b="0" lang="en-GB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urier New"/>
              </a:rPr>
              <a:t>; 15 clock cycl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50840"/>
                <a:tab algn="l" pos="228924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urier New"/>
              </a:rPr>
              <a:t>jz</a:t>
            </a:r>
            <a:r>
              <a:rPr b="0" lang="en-GB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urier New"/>
              </a:rPr>
              <a:t>in0,error</a:t>
            </a:r>
            <a:r>
              <a:rPr b="0" lang="en-GB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urier New"/>
              </a:rPr>
              <a:t>; RCO not active?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50840"/>
                <a:tab algn="l" pos="228924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715000" y="1905120"/>
          <a:ext cx="3152880" cy="222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1905120"/>
                    <a:ext cx="3152880" cy="22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entury Schoolbook"/>
              </a:rPr>
              <a:t>CPUCLT: Additional test controller instructions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09480" y="2286000"/>
          <a:ext cx="8763120" cy="403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86000"/>
                    <a:ext cx="8763120" cy="40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2438280" y="304920"/>
            <a:ext cx="63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2b2b2"/>
                </a:solidFill>
                <a:latin typeface="Century Schoolbook"/>
              </a:rPr>
              <a:t>Prototype debugging and validatio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entury Schoolbook"/>
              </a:rPr>
              <a:t>Lunch break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438280" y="2438280"/>
            <a:ext cx="373392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entury Schoolbook"/>
              </a:rPr>
              <a:t>An extended application domain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entury Schoolbook"/>
              </a:rPr>
              <a:t>What would prevent the BS infrastructure to be used for: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entury Schoolbook"/>
              </a:rPr>
              <a:t>Functional testing</a:t>
            </a:r>
            <a:endParaRPr b="0" lang="en-US" sz="2400" spc="-1" strike="noStrike">
              <a:solidFill>
                <a:srgbClr val="ffff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entury Schoolbook"/>
              </a:rPr>
              <a:t>Prototype debugging and validation</a:t>
            </a:r>
            <a:endParaRPr b="0" lang="en-US" sz="2400" spc="-1" strike="noStrike">
              <a:solidFill>
                <a:srgbClr val="ffff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entury Schoolbook"/>
              </a:rPr>
              <a:t>Real-time fault detection</a:t>
            </a:r>
            <a:endParaRPr b="0" lang="en-US" sz="2400" spc="-1" strike="noStrike">
              <a:solidFill>
                <a:srgbClr val="ffff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entury Schoolbook"/>
              </a:rPr>
              <a:t>Parametric testing</a:t>
            </a:r>
            <a:endParaRPr b="0" lang="en-US" sz="2400" spc="-1" strike="noStrike">
              <a:solidFill>
                <a:srgbClr val="ffff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entury Schoolbook"/>
              </a:rPr>
              <a:t>Mixed-signal testing</a:t>
            </a:r>
            <a:endParaRPr b="0" lang="en-US" sz="24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53" name=""/>
          <p:cNvSpPr/>
          <p:nvPr/>
        </p:nvSpPr>
        <p:spPr>
          <a:xfrm>
            <a:off x="2438280" y="304920"/>
            <a:ext cx="63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2b2b2"/>
                </a:solidFill>
                <a:latin typeface="Century Schoolbook"/>
              </a:rPr>
              <a:t>Extending the application domain of B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entury Schoolbook"/>
              </a:rPr>
              <a:t>Functional testing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entury Schoolbook"/>
              </a:rPr>
              <a:t>Goal: To check that the circuit (IC, PCB, etc.) function is as expected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  <a:p>
            <a:pPr marL="312120" indent="-312120">
              <a:spcBef>
                <a:spcPts val="700"/>
              </a:spcBef>
              <a:buClr>
                <a:srgbClr val="ffff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entury Schoolbook"/>
              </a:rPr>
              <a:t>Main limitations: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  <a:p>
            <a:pPr lvl="1" marL="676080" indent="-259920">
              <a:spcBef>
                <a:spcPts val="601"/>
              </a:spcBef>
              <a:buClr>
                <a:srgbClr val="ffff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entury Schoolbook"/>
              </a:rPr>
              <a:t>Synchronisation between test and system logic</a:t>
            </a:r>
            <a:endParaRPr b="0" lang="en-US" sz="2400" spc="-1" strike="noStrike">
              <a:solidFill>
                <a:srgbClr val="ffff00"/>
              </a:solidFill>
              <a:latin typeface="Century Schoolbook"/>
            </a:endParaRPr>
          </a:p>
          <a:p>
            <a:pPr lvl="1" marL="676080" indent="-259920">
              <a:spcBef>
                <a:spcPts val="601"/>
              </a:spcBef>
              <a:buClr>
                <a:srgbClr val="ffff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entury Schoolbook"/>
              </a:rPr>
              <a:t>Predicting what values are to be captured</a:t>
            </a:r>
            <a:endParaRPr b="0" lang="en-US" sz="2400" spc="-1" strike="noStrike">
              <a:solidFill>
                <a:srgbClr val="ffff00"/>
              </a:solidFill>
              <a:latin typeface="Century Schoolbook"/>
            </a:endParaRPr>
          </a:p>
          <a:p>
            <a:pPr lvl="1" marL="676080" indent="-259920">
              <a:spcBef>
                <a:spcPts val="601"/>
              </a:spcBef>
              <a:buClr>
                <a:srgbClr val="ffff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entury Schoolbook"/>
              </a:rPr>
              <a:t>Repeatability of the test sequence</a:t>
            </a:r>
            <a:endParaRPr b="0" lang="en-US" sz="2400" spc="-1" strike="noStrike">
              <a:solidFill>
                <a:srgbClr val="ffff00"/>
              </a:solidFill>
              <a:latin typeface="Century Schoolbook"/>
            </a:endParaRPr>
          </a:p>
          <a:p>
            <a:pPr lvl="1" marL="676080" indent="-259920">
              <a:spcBef>
                <a:spcPts val="601"/>
              </a:spcBef>
              <a:buClr>
                <a:srgbClr val="ffff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entury Schoolbook"/>
              </a:rPr>
              <a:t>Sampling at representative CLK frequencies</a:t>
            </a:r>
            <a:endParaRPr b="0" lang="en-US" sz="2400" spc="-1" strike="noStrike">
              <a:solidFill>
                <a:srgbClr val="ffff00"/>
              </a:solidFill>
              <a:latin typeface="Century Schoolbook"/>
            </a:endParaRPr>
          </a:p>
          <a:p>
            <a:pPr lvl="1" marL="676080" indent="-259920">
              <a:spcBef>
                <a:spcPts val="601"/>
              </a:spcBef>
              <a:buClr>
                <a:srgbClr val="ffff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entury Schoolbook"/>
              </a:rPr>
              <a:t>Need to cope with processor-based or dedicated hardware -based solutions</a:t>
            </a:r>
            <a:endParaRPr b="0" lang="en-US" sz="2400" spc="-1" strike="noStrike">
              <a:solidFill>
                <a:srgbClr val="ffff00"/>
              </a:solidFill>
              <a:latin typeface="Century Schoolbook"/>
            </a:endParaRPr>
          </a:p>
          <a:p>
            <a:pPr lvl="1" marL="676080" indent="-259920">
              <a:spcBef>
                <a:spcPts val="601"/>
              </a:spcBef>
              <a:buClr>
                <a:srgbClr val="ffff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entury Schoolbook"/>
              </a:rPr>
              <a:t>...</a:t>
            </a:r>
            <a:endParaRPr b="0" lang="en-US" sz="24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56" name=""/>
          <p:cNvSpPr/>
          <p:nvPr/>
        </p:nvSpPr>
        <p:spPr>
          <a:xfrm>
            <a:off x="2438280" y="304920"/>
            <a:ext cx="63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2b2b2"/>
                </a:solidFill>
                <a:latin typeface="Century Schoolbook"/>
              </a:rPr>
              <a:t>Extending the application domain of B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entury Schoolbook"/>
              </a:rPr>
              <a:t>Prototype debugging and validation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entury Schoolbook"/>
              </a:rPr>
              <a:t>Goal: To detect structural and functional faults, avoiding in-circuit access (in-circuit emulators, logic probes, …)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entury Schoolbook"/>
              </a:rPr>
              <a:t>Main limitations: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entury Schoolbook"/>
              </a:rPr>
              <a:t>Similar to functional testing, since structural testing operations are easily achieved through the BS infrastructure</a:t>
            </a:r>
            <a:endParaRPr b="0" lang="en-US" sz="24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304920"/>
            <a:ext cx="63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2b2b2"/>
                </a:solidFill>
                <a:latin typeface="Century Schoolbook"/>
              </a:rPr>
              <a:t>Extending the application domain of B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entury Schoolbook"/>
              </a:rPr>
              <a:t>Real-time fault detection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entury Schoolbook"/>
              </a:rPr>
              <a:t>Goal: To enhance circuit reliability and add fault tolerance features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  <a:p>
            <a:pPr marL="325800" indent="-325800">
              <a:spcBef>
                <a:spcPts val="700"/>
              </a:spcBef>
              <a:buClr>
                <a:srgbClr val="ffff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entury Schoolbook"/>
              </a:rPr>
              <a:t>Main limitations: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  <a:p>
            <a:pPr lvl="1" marL="705600" indent="-271440">
              <a:spcBef>
                <a:spcPts val="601"/>
              </a:spcBef>
              <a:buClr>
                <a:srgbClr val="ffff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entury Schoolbook"/>
              </a:rPr>
              <a:t>Similar to functional testing, in terms of synchronisation, prediction of captured values, speed of operation, etc.</a:t>
            </a:r>
            <a:endParaRPr b="0" lang="en-US" sz="2400" spc="-1" strike="noStrike">
              <a:solidFill>
                <a:srgbClr val="ffff00"/>
              </a:solidFill>
              <a:latin typeface="Century Schoolbook"/>
            </a:endParaRPr>
          </a:p>
          <a:p>
            <a:pPr lvl="1" marL="705600" indent="-271440">
              <a:spcBef>
                <a:spcPts val="601"/>
              </a:spcBef>
              <a:buClr>
                <a:srgbClr val="ffff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entury Schoolbook"/>
              </a:rPr>
              <a:t>Coverage of defect conditions</a:t>
            </a:r>
            <a:endParaRPr b="0" lang="en-US" sz="2400" spc="-1" strike="noStrike">
              <a:solidFill>
                <a:srgbClr val="ffff00"/>
              </a:solidFill>
              <a:latin typeface="Century Schoolbook"/>
            </a:endParaRPr>
          </a:p>
          <a:p>
            <a:pPr lvl="1" marL="705600" indent="-271440">
              <a:spcBef>
                <a:spcPts val="601"/>
              </a:spcBef>
              <a:buClr>
                <a:srgbClr val="ffff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entury Schoolbook"/>
              </a:rPr>
              <a:t>To provide recovery / graceful degradation solutions</a:t>
            </a:r>
            <a:endParaRPr b="0" lang="en-US" sz="2400" spc="-1" strike="noStrike">
              <a:solidFill>
                <a:srgbClr val="ffff00"/>
              </a:solidFill>
              <a:latin typeface="Century Schoolbook"/>
            </a:endParaRPr>
          </a:p>
          <a:p>
            <a:pPr lvl="1" marL="705600" indent="-271440">
              <a:spcBef>
                <a:spcPts val="601"/>
              </a:spcBef>
              <a:buClr>
                <a:srgbClr val="ffff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entury Schoolbook"/>
              </a:rPr>
              <a:t>...</a:t>
            </a:r>
            <a:endParaRPr b="0" lang="en-US" sz="24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304920"/>
            <a:ext cx="63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2b2b2"/>
                </a:solidFill>
                <a:latin typeface="Century Schoolbook"/>
              </a:rPr>
              <a:t>Extending the application domain of B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entury Schoolbook"/>
              </a:rPr>
              <a:t>Parametric testing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entury Schoolbook"/>
              </a:rPr>
              <a:t>Goal: To verify parametric information (propagation and transition times, input / output voltage and current values, …)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  <a:p>
            <a:pPr marL="329040" indent="-329040">
              <a:spcBef>
                <a:spcPts val="700"/>
              </a:spcBef>
              <a:buClr>
                <a:srgbClr val="ffff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entury Schoolbook"/>
              </a:rPr>
              <a:t>Limitations: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  <a:p>
            <a:pPr lvl="1" marL="713160" indent="-274320">
              <a:spcBef>
                <a:spcPts val="601"/>
              </a:spcBef>
              <a:buClr>
                <a:srgbClr val="ffff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entury Schoolbook"/>
              </a:rPr>
              <a:t>Synchronisation between relevant event and TCK</a:t>
            </a:r>
            <a:endParaRPr b="0" lang="en-US" sz="2400" spc="-1" strike="noStrike">
              <a:solidFill>
                <a:srgbClr val="ffff00"/>
              </a:solidFill>
              <a:latin typeface="Century Schoolbook"/>
            </a:endParaRPr>
          </a:p>
          <a:p>
            <a:pPr lvl="1" marL="713160" indent="-274320">
              <a:spcBef>
                <a:spcPts val="601"/>
              </a:spcBef>
              <a:buClr>
                <a:srgbClr val="ffff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entury Schoolbook"/>
              </a:rPr>
              <a:t>Speed (TCK frequencies versus propagation or transition times)</a:t>
            </a:r>
            <a:endParaRPr b="0" lang="en-US" sz="2400" spc="-1" strike="noStrike">
              <a:solidFill>
                <a:srgbClr val="ffff00"/>
              </a:solidFill>
              <a:latin typeface="Century Schoolbook"/>
            </a:endParaRPr>
          </a:p>
          <a:p>
            <a:pPr lvl="1" marL="713160" indent="-274320">
              <a:spcBef>
                <a:spcPts val="601"/>
              </a:spcBef>
              <a:buClr>
                <a:srgbClr val="ffff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entury Schoolbook"/>
              </a:rPr>
              <a:t>Analogue nature of voltage and current parameters</a:t>
            </a:r>
            <a:endParaRPr b="0" lang="en-US" sz="2400" spc="-1" strike="noStrike">
              <a:solidFill>
                <a:srgbClr val="ffff00"/>
              </a:solidFill>
              <a:latin typeface="Century Schoolbook"/>
            </a:endParaRPr>
          </a:p>
          <a:p>
            <a:pPr lvl="1" marL="713160" indent="-274320">
              <a:spcBef>
                <a:spcPts val="601"/>
              </a:spcBef>
              <a:buClr>
                <a:srgbClr val="ffff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entury Schoolbook"/>
              </a:rPr>
              <a:t>...</a:t>
            </a:r>
            <a:endParaRPr b="0" lang="en-US" sz="24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65" name=""/>
          <p:cNvSpPr/>
          <p:nvPr/>
        </p:nvSpPr>
        <p:spPr>
          <a:xfrm>
            <a:off x="2438280" y="304920"/>
            <a:ext cx="63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2b2b2"/>
                </a:solidFill>
                <a:latin typeface="Century Schoolbook"/>
              </a:rPr>
              <a:t>Extending the application domain of B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entury Schoolbook"/>
              </a:rPr>
              <a:t>Mixed-signal testing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entury Schoolbook"/>
              </a:rPr>
              <a:t>Goal: To enable the BS infrastructure to deal with analogue signals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entury Schoolbook"/>
              </a:rPr>
              <a:t>Limitations: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entury Schoolbook"/>
              </a:rPr>
              <a:t>The digital nature of the IEEE 1149.1 standard</a:t>
            </a:r>
            <a:endParaRPr b="0" lang="en-US" sz="2400" spc="-1" strike="noStrike">
              <a:solidFill>
                <a:srgbClr val="ffff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entury Schoolbook"/>
              </a:rPr>
              <a:t>The structural test nature of the IEEE 1149.1 standard</a:t>
            </a:r>
            <a:endParaRPr b="0" lang="en-US" sz="2400" spc="-1" strike="noStrike">
              <a:solidFill>
                <a:srgbClr val="ffff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entury Schoolbook"/>
              </a:rPr>
              <a:t>Solution: The P1149.4 standard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68" name=""/>
          <p:cNvSpPr/>
          <p:nvPr/>
        </p:nvSpPr>
        <p:spPr>
          <a:xfrm>
            <a:off x="2438280" y="304920"/>
            <a:ext cx="63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2b2b2"/>
                </a:solidFill>
                <a:latin typeface="Century Schoolbook"/>
              </a:rPr>
              <a:t>Extending the application domain of B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entury Schoolbook"/>
              </a:rPr>
              <a:t>A (simplified) debugging model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70" name=""/>
          <p:cNvSpPr/>
          <p:nvPr/>
        </p:nvSpPr>
        <p:spPr>
          <a:xfrm>
            <a:off x="2438280" y="304920"/>
            <a:ext cx="63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2b2b2"/>
                </a:solidFill>
                <a:latin typeface="Century Schoolbook"/>
              </a:rPr>
              <a:t>Prototype debugging and validatio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85800" y="2133720"/>
          <a:ext cx="3429000" cy="29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33720"/>
                    <a:ext cx="3429000" cy="29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4495680" y="1981080"/>
            <a:ext cx="43434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3920" indent="-853920">
              <a:spcBef>
                <a:spcPts val="1500"/>
              </a:spcBef>
              <a:tabLst>
                <a:tab algn="l" pos="0"/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S: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ingle-step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853920" indent="-853920">
              <a:spcBef>
                <a:spcPts val="1500"/>
              </a:spcBef>
              <a:tabLst>
                <a:tab algn="l" pos="0"/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RT: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Real-time operation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853920" indent="-853920">
              <a:spcBef>
                <a:spcPts val="1500"/>
              </a:spcBef>
              <a:tabLst>
                <a:tab algn="l" pos="0"/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P: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reakpoint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853920" indent="-853920">
              <a:spcBef>
                <a:spcPts val="1500"/>
              </a:spcBef>
              <a:tabLst>
                <a:tab algn="l" pos="0"/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COV: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Controllability, observability and verification operation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853920" indent="-853920">
              <a:spcBef>
                <a:spcPts val="1500"/>
              </a:spcBef>
              <a:tabLst>
                <a:tab algn="l" pos="0"/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CIT: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Control of internal resources and test program flow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2T21:27:04Z</dcterms:created>
  <dc:creator>José Manuel Martins Ferreira</dc:creator>
  <dc:description/>
  <dc:language>en-US</dc:language>
  <cp:lastModifiedBy>Astep</cp:lastModifiedBy>
  <cp:lastPrinted>1998-09-14T18:40:34Z</cp:lastPrinted>
  <dcterms:modified xsi:type="dcterms:W3CDTF">1998-09-22T06:51:42Z</dcterms:modified>
  <cp:revision>84</cp:revision>
  <dc:subject/>
  <dc:title>No Slide Title</dc:title>
</cp:coreProperties>
</file>