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32.wmf" ContentType="image/x-wmf"/>
  <Override PartName="/ppt/media/image2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20.jpeg" ContentType="image/jpeg"/>
  <Override PartName="/ppt/media/image12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media/image31.wmf" ContentType="image/x-wmf"/>
  <Override PartName="/ppt/media/image19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242-C652-4950-82E2-3D9E5502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7C9-03B5-418C-BC22-07178DD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ED8-B7A3-4EBF-85CF-6E769AD7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C30-47D8-44C3-A98B-10531F6E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210-18AE-4B4C-A4EB-028BAE5A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4BD-DE25-4D04-AF42-63FEE47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044-E241-4989-85FA-3C90C32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2E0-CAD6-48DB-A024-C1050A69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C18-D7EB-4BCE-AF69-CA8C13C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BAF-EE50-4A78-999C-7EB8BC0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028-4EDE-4670-8F83-F3EB6A4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BAF-D6B8-432D-AD90-4F2CDC4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16208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6328-44ED-4BF2-9F04-629473CE3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676520"/>
            <a:ext cx="7772400" cy="75960"/>
          </a:xfrm>
          <a:prstGeom prst="rect">
            <a:avLst/>
          </a:prstGeom>
          <a:gradFill rotWithShape="0">
            <a:gsLst>
              <a:gs pos="0">
                <a:srgbClr val="5c5c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477120"/>
            <a:ext cx="647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© </a:t>
            </a:r>
            <a:r>
              <a:rPr b="1" lang="pt-PT" sz="1000" spc="-1" strike="noStrike">
                <a:solidFill>
                  <a:srgbClr val="ffff00"/>
                </a:solidFill>
                <a:latin typeface="Century Schoolbook"/>
              </a:rPr>
              <a:t>LEONARDO INSIGHT II - 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J. M. Martins Ferreira - </a:t>
            </a:r>
            <a:r>
              <a:rPr b="0" lang="en-GB" sz="1000" spc="-1" strike="noStrike">
                <a:solidFill>
                  <a:srgbClr val="ffff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ffff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7238880" y="4800600"/>
            <a:ext cx="11271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3124080"/>
            <a:ext cx="5791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ts val="0"/>
              </a:lnSpc>
              <a:spcBef>
                <a:spcPts val="1100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J. M. Martins Ferreir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entury Schoolbook"/>
              </a:rPr>
              <a:t>University of</a:t>
            </a: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 Porto (FEUP / DEEC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Rua dos Bragas - 4099 Porto Codex - PORTUG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entury Schoolbook"/>
              </a:rPr>
              <a:t>( jmf@fe.up.pt 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jmf4" descr=""/>
          <p:cNvPicPr/>
          <p:nvPr/>
        </p:nvPicPr>
        <p:blipFill>
          <a:blip r:embed="rId2"/>
          <a:stretch/>
        </p:blipFill>
        <p:spPr>
          <a:xfrm>
            <a:off x="1219320" y="325764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ts val="0"/>
              </a:lnSpc>
              <a:spcBef>
                <a:spcPts val="1100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Schoolbook"/>
              </a:rPr>
              <a:t>BST reuse beyond structural test: Extending the application domain of this test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Schoolbook"/>
              </a:rPr>
              <a:t>(part 3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280"/>
                <a:tab algn="l" pos="384120"/>
                <a:tab algn="l" pos="419400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724280"/>
            <a:ext cx="3504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Leonardo INSIGHT I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CoDeVer Meet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entury Schoolbook"/>
              </a:rPr>
              <a:t>HIBU, September 21st, 1998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 to support BP and R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Breakpoint: The optional BS instructions enable automatic detection of the BP condition through the BS register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Real-time: Optional BS instructions use the BS register to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tore two consecutive vector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tore two consecutive vectors after a pre-specified circuit condition takes place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tore two consecutive vectors until a pre-specified circuit event takes place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Automatic detection of BP conditions (1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bjective: To activate a dedicated output pin upon the occurrence of a given circuit condition (single or multiple component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dditional resources required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wo optional BS instructions (Sel_cond, Det_cond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 modified BS cell structure (detection of the BP condition takes place in the BS cells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wo additional pins in each BS IC: CDI (condition detection input) and CDO (... output), used for cascading and to interface the debug controller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Automatic detection of BP conditions (2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ptional BS instructions Sel_cond, Det_cond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el_cond selects a 3-bit register (8 conditions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mandatory S / P instruction is used to store the expected values in the update stage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Det_cond is then used to shift the mask data into the shift / capture stage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BS cells are not modified in Capt-DR or Upd-DR, when Det_cond is the current instructio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condition is evaluated in the RT / I state and the result is output at the CDO pi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Automatic detection of BP conditions (3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2743200"/>
          <a:ext cx="543420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743200"/>
                    <a:ext cx="543420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Modified BS cell structure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(1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bjective: To capture two consecutive vectors and to store them in the shift / capture and update stage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dditional resources required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One optional BS instruction (Store_seq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 modified BS structure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 larger number of vectors may be stored by adding latch stages to the modified BS cell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(2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optional BS instruction Store_seq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first vector is captured into the shift / capture stages on the rising edge of TCK (on RT / I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next rising edge of TCK captures the second vector and takes the TAP controller to Sel.-DR sca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first vector is read on the Shift-DR state (the shift / capture stage does not change on Capt.-DR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TAP controller is taken through Pause-DR / Exit-2 DR (where the contents of the update stage are captured into the shift / capture stage) / Shift-DR, which enables the second vector to be read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(3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7400" y="2666880"/>
          <a:ext cx="6426360" cy="33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642636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Modified BS cell structur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(4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90720" y="2895480"/>
          <a:ext cx="739116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39116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iming diagram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after condition (1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bjective: To merge condition detection and consecutive vector storage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dditional resources required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One optional instruction (Store_after_cond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 modified BS cell structure and a finite state machine (FSM) with 4 states (monitor condition, capture sequence I and II, end of sequence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wo additional pins in each BS IC: CDI and CDO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 larger number of vectors may be stored by adding latch stages to the modified BS cell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after condition (2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optional BS instruction Store_after_seq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Set up as for the Det_cond BS instructio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ssuming the FSM in “monitor sequence”, TAP controller in RT / I, and that a detection event took place, transitions on TCK have the following effect: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033920" indent="-203400">
              <a:spcBef>
                <a:spcPts val="499"/>
              </a:spcBef>
              <a:buClr>
                <a:srgbClr val="ffff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entury Schoolbook"/>
              </a:rPr>
              <a:t>Falling: The FSM goes to “capture sequence I”</a:t>
            </a:r>
            <a:endParaRPr b="0" lang="en-US" sz="20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033920" indent="-203400">
              <a:spcBef>
                <a:spcPts val="499"/>
              </a:spcBef>
              <a:buClr>
                <a:srgbClr val="ffff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entury Schoolbook"/>
              </a:rPr>
              <a:t>Rising: Captures the first vector into the S/C stages</a:t>
            </a:r>
            <a:endParaRPr b="0" lang="en-US" sz="20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033920" indent="-203400">
              <a:spcBef>
                <a:spcPts val="499"/>
              </a:spcBef>
              <a:buClr>
                <a:srgbClr val="ffff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entury Schoolbook"/>
              </a:rPr>
              <a:t>Falling: Transfers the contents of S/C to UPD stages and the FSM to “capture sequence II”</a:t>
            </a:r>
            <a:endParaRPr b="0" lang="en-US" sz="20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033920" indent="-203400">
              <a:spcBef>
                <a:spcPts val="499"/>
              </a:spcBef>
              <a:buClr>
                <a:srgbClr val="ffff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entury Schoolbook"/>
              </a:rPr>
              <a:t>Rising: Captures the second vector into the S/C stages</a:t>
            </a:r>
            <a:endParaRPr b="0" lang="en-US" sz="2000" spc="-1" strike="noStrike">
              <a:solidFill>
                <a:srgbClr val="ffff00"/>
              </a:solidFill>
              <a:latin typeface="Century Schoolbook"/>
            </a:endParaRPr>
          </a:p>
          <a:p>
            <a:pPr lvl="2" marL="1033920" indent="-203400">
              <a:spcBef>
                <a:spcPts val="499"/>
              </a:spcBef>
              <a:buClr>
                <a:srgbClr val="ffff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entury Schoolbook"/>
              </a:rPr>
              <a:t>Falling: Takes the FSM to “end of sequence” and enables the vectors to be read as with the Store_seq instruction</a:t>
            </a:r>
            <a:endParaRPr b="0" lang="en-US" sz="2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utline of the presentation (afternoon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entury Schoolbook"/>
              </a:rPr>
              <a:t>Review of BS concepts (IC and PCB levels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entury Schoolbook"/>
              </a:rPr>
              <a:t>Extending the application domain of BST / Introduction to prototype debugging and validation through B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entury Schoolbook"/>
              </a:rPr>
              <a:t>Lunch break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Prototype debugging and validation through BS / Real-time fault detection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Parametric testing through BS / The 1149.4 proposed standard for mixed-signal testing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4648320"/>
            <a:ext cx="838080" cy="58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after condition (3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438280" y="2743200"/>
          <a:ext cx="556272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743200"/>
                    <a:ext cx="556272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Modified BS cell structur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after condition (4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2743200"/>
          <a:ext cx="723924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3924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iming diagram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until CDI (1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bjective: To capture and store two-vector sequences until the CDI pin is asserted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dditional resources required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One optional BS instruction (Store_until_CDI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 modified BS cell structure and a FSM with two states (monitor condition and end of sequence)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wo additional pins in each BS IC: CDI and CDO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A larger number of vectors may be stored by adding latch stages to the modified BS cell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until CDI (2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optional BS instruction Store_until_CDI: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ssuming the FSM in “monitor condition” and the TAP controller in RT / I, each rising edge on TCK captures a new vector into the S/C stage and each falling edge transfers the contents of S/C to UPD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When CDI is asserted the FSM goes to “end of sequence” on the falling edge of TCK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The two vectors may be read as with Store_seq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modified BS cell structure proposed for Store_seq also supports Store_until_CDI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: RT — Store two vectors until CDI (3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2743200"/>
          <a:ext cx="7010280" cy="30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701028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iming diagram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A general design for debug and test framework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1828800"/>
          <a:ext cx="7407000" cy="45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4070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ost / benefit reasoning...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n-board / on-chip controller architectures as the one discussed, combined with optional BS instructions in some ICs, have pros and cons…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ilicon and packaging overhead (cost) are easy to measure, but the advantages of extending the usefulness of the BS infrastructure (benefit) is hard to estimate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4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438280" cy="152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Texas Instrument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5" name="TI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872400" cy="2408400"/>
          </a:xfrm>
          <a:prstGeom prst="rect">
            <a:avLst/>
          </a:prstGeom>
          <a:ln w="0">
            <a:noFill/>
          </a:ln>
        </p:spPr>
      </p:pic>
      <p:pic>
        <p:nvPicPr>
          <p:cNvPr id="156" name="TI2" descr=""/>
          <p:cNvPicPr/>
          <p:nvPr/>
        </p:nvPicPr>
        <p:blipFill>
          <a:blip r:embed="rId3"/>
          <a:stretch/>
        </p:blipFill>
        <p:spPr>
          <a:xfrm>
            <a:off x="2895480" y="4114800"/>
            <a:ext cx="579132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orelis2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962160" cy="2454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oreli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corelis1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430992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Göpel electronic GmbH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62" name="gopel1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5722920" cy="4645080"/>
          </a:xfrm>
          <a:prstGeom prst="rect">
            <a:avLst/>
          </a:prstGeom>
          <a:ln w="0">
            <a:noFill/>
          </a:ln>
        </p:spPr>
      </p:pic>
      <p:pic>
        <p:nvPicPr>
          <p:cNvPr id="163" name="gopel2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2517480" cy="187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Part 3: Outlin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Prototype debugging and validation through BS / Real-time fault detection 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A small application example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Optional BS instructions to support prototype debugging and validation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Design for debug and test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entury Schoolbook"/>
              </a:rPr>
              <a:t>Feasibility aspect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Real-time fault detection through B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Real-time fault detection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Fault tolerance is enabled by redundancy: spatial (hardware), informational (data structures) or temporal (computation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Redundancy implies lower speed (temporal / informational redundancy), higher cost (spatial redundancy) or both (in most cases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Scan-based real-time fault detection and containment may play an important role in the introduction / enhancement of fault-tolerant feature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Real-time fault detection: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verview of a possible solution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00200" y="1828800"/>
          <a:ext cx="620064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620064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Modified BS cell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66680" y="1905120"/>
          <a:ext cx="702180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0218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Faulty condition register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33720" y="1752480"/>
          <a:ext cx="541008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541008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ontrol register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2514600"/>
          <a:ext cx="708660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708660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instructions required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2362320"/>
          <a:ext cx="7540560" cy="34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54056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Modified TAP controller diagram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057400" y="1828800"/>
          <a:ext cx="48006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48006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n-line fault detection FSM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2057400"/>
          <a:ext cx="609624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096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Synchronisation with the system CLK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057400" y="2519280"/>
          <a:ext cx="5638680" cy="20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19280"/>
                    <a:ext cx="563868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Fault output FSM for sequences of illegal value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Real-time fault dete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2438280"/>
          <a:ext cx="632484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63248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Example: Debugging a simple double sequence detector FSM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utput Z indicates when the sequence 101 takes place simultaneously in both inputs (X,Y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verlapping sequences are to be detected as well (10101 will activate Z twice)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00800" y="1981080"/>
          <a:ext cx="218124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981080"/>
                    <a:ext cx="21812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943600" y="3657600"/>
          <a:ext cx="2590920" cy="25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657600"/>
                    <a:ext cx="259092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Coffee break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583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Debugging set up using the dual-processor controller mode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62" name="fsm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58080" cy="443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Excerpt from the double sequence FSM debugging program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8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entury Schoolbook"/>
              </a:rPr>
              <a:t>CPUCLF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entury Schoolbook"/>
              </a:rPr>
              <a:t>CPUCLT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447920" y="3200400"/>
            <a:ext cx="220968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81280"/>
            <a:ext cx="2209680" cy="16765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629400" y="2133720"/>
          <a:ext cx="2335320" cy="22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133720"/>
                    <a:ext cx="233532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858000" y="4267080"/>
          <a:ext cx="1730520" cy="19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4267080"/>
                    <a:ext cx="173052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73392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514600"/>
            <a:ext cx="35812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eltap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wsa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514600"/>
            <a:ext cx="31240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etout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sa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wsa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47920" y="5715000"/>
            <a:ext cx="220968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733920"/>
            <a:ext cx="312408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rstout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jnz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0,err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etout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cl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etout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sa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352680"/>
            <a:ext cx="358128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ld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c16,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ncshfcp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.db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$00,$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jpe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errorcl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ssa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"/>
              </a:rPr>
              <a:t>wsa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rodepse.bmp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8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rodepc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6268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Optional BS instructions (design for debuggability)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Optional BS instructions help to overcome the speed limitations of hardware debugging via scan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dual-processor debugging controller model previously presented may still be used when only the mandatory IEEE 1149.1 instructions are available, but at the cost of a degraded debugging performance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entury Schoolbook"/>
              </a:rPr>
              <a:t>The optional BS instructions defined support BP and RT debug operations</a:t>
            </a:r>
            <a:endParaRPr b="0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304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2b2b2"/>
                </a:solidFill>
                <a:latin typeface="Century Schoolbook"/>
              </a:rPr>
              <a:t>Prototype debugging and valid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21:27:04Z</dcterms:created>
  <dc:creator>José Manuel Martins Ferreira</dc:creator>
  <dc:description/>
  <dc:language>en-US</dc:language>
  <cp:lastModifiedBy>Astep</cp:lastModifiedBy>
  <cp:lastPrinted>1998-09-14T18:40:57Z</cp:lastPrinted>
  <dcterms:modified xsi:type="dcterms:W3CDTF">1998-09-22T07:00:24Z</dcterms:modified>
  <cp:revision>324</cp:revision>
  <dc:subject/>
  <dc:title>No Slide Title</dc:title>
</cp:coreProperties>
</file>